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1.gif" ContentType="image/gif"/>
  <Override PartName="/ppt/media/image11.jpeg" ContentType="image/jpeg"/>
  <Override PartName="/ppt/media/image21.wmf" ContentType="image/x-wmf"/>
  <Override PartName="/ppt/media/type.wav" ContentType="audio/x-wav"/>
  <Override PartName="/ppt/media/image19.wmf" ContentType="image/x-wmf"/>
  <Override PartName="/ppt/media/start.wav" ContentType="audio/x-wav"/>
  <Override PartName="/ppt/media/image20.wmf" ContentType="image/x-wmf"/>
  <Override PartName="/ppt/media/image18.wmf" ContentType="image/x-wmf"/>
  <Override PartName="/ppt/media/hammer.wav" ContentType="audio/x-wav"/>
  <Override PartName="/ppt/media/image15.png" ContentType="image/png"/>
  <Override PartName="/ppt/media/image14.png" ContentType="image/png"/>
  <Override PartName="/ppt/media/image22.png" ContentType="image/png"/>
  <Override PartName="/ppt/media/image17.gif" ContentType="image/gif"/>
  <Override PartName="/ppt/media/image13.wmf" ContentType="image/x-wmf"/>
  <Override PartName="/ppt/media/camera.wav" ContentType="audio/x-wav"/>
  <Override PartName="/ppt/media/image1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3.png" ContentType="image/png"/>
  <Override PartName="/ppt/media/image31.wmf" ContentType="image/x-wmf"/>
  <Override PartName="/ppt/media/image29.wmf" ContentType="image/x-wmf"/>
  <Override PartName="/ppt/media/image33.wmf" ContentType="image/x-wmf"/>
  <Override PartName="/ppt/media/image34.wmf" ContentType="image/x-wmf"/>
  <Override PartName="/ppt/media/image38.gif" ContentType="image/gif"/>
  <Override PartName="/ppt/media/image43.png" ContentType="image/png"/>
  <Override PartName="/ppt/media/image35.wmf" ContentType="image/x-wmf"/>
  <Override PartName="/ppt/media/image40.png" ContentType="image/png"/>
  <Override PartName="/ppt/media/image41.gif" ContentType="image/gif"/>
  <Override PartName="/ppt/media/image42.png" ContentType="image/png"/>
  <Override PartName="/ppt/media/image28.gif" ContentType="image/gif"/>
  <Override PartName="/ppt/media/image8.png" ContentType="image/png"/>
  <Override PartName="/ppt/media/image16.wmf" ContentType="image/x-wmf"/>
  <Override PartName="/ppt/media/image44.jpeg" ContentType="image/jpeg"/>
  <Override PartName="/ppt/media/image9.png" ContentType="image/png"/>
  <Override PartName="/ppt/media/image39.png" ContentType="image/png"/>
  <Override PartName="/ppt/media/image37.png" ContentType="image/png"/>
  <Override PartName="/ppt/media/image7.png" ContentType="image/png"/>
  <Override PartName="/ppt/media/image23.wmf" ContentType="image/x-wmf"/>
  <Override PartName="/ppt/media/image27.gif" ContentType="image/gif"/>
  <Override PartName="/ppt/media/image4.gif" ContentType="image/gif"/>
  <Override PartName="/ppt/media/image30.wmf" ContentType="image/x-wmf"/>
  <Override PartName="/ppt/media/image32.wmf" ContentType="image/x-wmf"/>
  <Override PartName="/ppt/media/chimes.wav" ContentType="audio/x-wav"/>
  <Override PartName="/ppt/media/image36.png" ContentType="image/png"/>
  <Override PartName="/ppt/media/image6.png" ContentType="image/png"/>
  <Override PartName="/ppt/media/image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46DA-35E8-45D8-A037-95022EDF4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版权声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本资源盘由数学中国网站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athschina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）提供全部资源并全力支持出版、发行的电子出版物。少年智力开发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版权声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源盘由数学中国网站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提供全部资源并全力支持出版、发行的电子出版物。少年智力开发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EC7-51B7-480F-A43F-17DAE47A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B3C-99CE-47EC-8B6F-AB0EEEC2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DE0-B7C1-4471-90F1-B559C096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4AA-A56D-4518-86E9-71E2E188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C594-D4E7-4075-A61D-CDAF51D4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91B9-63FB-4FE6-986C-1F6A3138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155E-02E3-4743-8816-7BF8B5BA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6526-E4A5-44C6-942D-6D199C79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7A59-B5B6-4D54-8D77-F09AC0AB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55DF-BF4C-44F1-AF8A-7EAF1EB7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00D2-1D31-4A5F-B993-9296201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386-8CD1-48A6-B044-7A296219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0988-FE7E-4D72-8172-6C26E03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C177-4F6F-4629-B4C6-CFEDD4B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53FD-804E-4AE3-AD19-1666E60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5E1F-A865-47D5-B6B9-2B9DD98B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5D37-034C-4239-868E-432CC606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081F-2331-42DE-A9C9-6EDBF3E9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C4D2-BE1A-4F7B-A505-2D95CAFD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29A3-4A42-4CB4-838D-9C2D9B73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9B08-78AB-4F7D-B773-C7A63AFF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728D-6170-4183-B4E1-48AAE817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F68-B10E-4E7C-906B-F51916D3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CB24-2CF1-42B1-95BE-C4400A2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690A-7FC8-4426-9C87-0CE92F8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A008-E807-4AF2-95C1-CC08EE5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BD6D-532C-4059-B370-59FB519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357C-9C75-4DB6-BF65-6B6C7FE9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BFC2-360C-4426-95E8-FD662D6F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EF00-3B16-48EE-BBC3-4D4C128E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3B1B-7A95-4804-AD91-E4960C8C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A15E-6C86-451E-B576-18A2BCF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4204-602D-4C08-8012-BEA291A0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6EA-8FFE-46D4-B61C-8239C491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A04A-E518-4F0F-B9AC-08A9011A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1D70-23B9-49D3-BBF4-34DA95F2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1EB0-0EC1-4AD3-A356-EF4696E0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0EA9-5A1D-423A-B83B-962FE14C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6F2D-8122-4739-8208-084FB97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5B2B-070A-430A-900F-21A057F8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7167-9997-4B67-9219-F07F668E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A39B-C09E-41AF-927F-488E1285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C9065-2D57-468F-9221-0EE4D0E9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174-A0E9-4CF5-A2CD-609E816B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368-29A1-48EC-A0FB-97248B41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5DB-D971-4EB3-B165-2D9274AD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0DC-5389-49CC-9478-2240A118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0DC-5BDB-4695-8A98-74E351E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A9E6-0305-4F97-B647-23E57E23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EA14-D6A1-495B-87DC-BD4986D05C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4E0-4EEB-49E4-975C-5691AEBC2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31AD-4146-4770-8AF6-C293F9BF93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8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image" Target="../media/image10.png"/><Relationship Id="rId16" Type="http://schemas.openxmlformats.org/officeDocument/2006/relationships/image" Target="../media/image36.png"/><Relationship Id="rId17" Type="http://schemas.openxmlformats.org/officeDocument/2006/relationships/image" Target="../media/image17.gi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gif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star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image" Target="../media/image10.png"/><Relationship Id="rId10" Type="http://schemas.openxmlformats.org/officeDocument/2006/relationships/image" Target="../media/image22.png"/><Relationship Id="rId11" Type="http://schemas.openxmlformats.org/officeDocument/2006/relationships/image" Target="../media/image17.gi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7"/>
          <p:cNvSpPr txBox="1"/>
          <p:nvPr/>
        </p:nvSpPr>
        <p:spPr>
          <a:xfrm>
            <a:off x="1828800" y="304920"/>
            <a:ext cx="838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数</a:t>
            </a:r>
            <a:endParaRPr b="0" lang="en-US" sz="5400" spc="1" strike="noStrike">
              <a:ln cap="sq"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9" name="WordArt 8"/>
          <p:cNvSpPr txBox="1"/>
          <p:nvPr/>
        </p:nvSpPr>
        <p:spPr>
          <a:xfrm>
            <a:off x="2590920" y="152280"/>
            <a:ext cx="533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学</a:t>
            </a:r>
            <a:endParaRPr b="0" lang="en-US" sz="1800" spc="1" strike="noStrike">
              <a:ln cap="sq"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0" name="Picture 9" descr="标志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372960"/>
            <a:ext cx="632160" cy="608040"/>
          </a:xfrm>
          <a:prstGeom prst="rect">
            <a:avLst/>
          </a:prstGeom>
          <a:ln w="0">
            <a:noFill/>
          </a:ln>
        </p:spPr>
      </p:pic>
      <p:sp>
        <p:nvSpPr>
          <p:cNvPr id="241" name="WordArt 10"/>
          <p:cNvSpPr txBox="1"/>
          <p:nvPr/>
        </p:nvSpPr>
        <p:spPr>
          <a:xfrm>
            <a:off x="3782880" y="4572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华文新魏"/>
              </a:rPr>
              <a:t>七年级     上册</a:t>
            </a:r>
            <a:endParaRPr b="1" lang="en-US" sz="2000" spc="1" strike="noStrike">
              <a:ln w="64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  <p:sp>
        <p:nvSpPr>
          <p:cNvPr id="242" name="WordArt 14"/>
          <p:cNvSpPr txBox="1"/>
          <p:nvPr/>
        </p:nvSpPr>
        <p:spPr>
          <a:xfrm>
            <a:off x="1219320" y="1600200"/>
            <a:ext cx="6913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华文新魏"/>
              </a:rPr>
              <a:t>第二章   整式</a:t>
            </a:r>
            <a:endParaRPr b="1" lang="en-US" sz="40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华文新魏"/>
              <a:ea typeface="华文新魏"/>
            </a:endParaRPr>
          </a:p>
        </p:txBody>
      </p:sp>
      <p:pic>
        <p:nvPicPr>
          <p:cNvPr id="243" name="WordArt 15" descr="yell_anm"/>
          <p:cNvPicPr/>
          <p:nvPr/>
        </p:nvPicPr>
        <p:blipFill>
          <a:blip r:embed="rId5"/>
          <a:stretch/>
        </p:blipFill>
        <p:spPr>
          <a:xfrm>
            <a:off x="2803680" y="3882960"/>
            <a:ext cx="406080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0" y="1371600"/>
            <a:ext cx="87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式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与字母、字母与字母相乘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省略乘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与字母相乘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字在前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省略乘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式子中出现除法运算时，一般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形式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带分数与字母相乘时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把带分数化成假分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带单位时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适当加括号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45" name="WordArt 5"/>
          <p:cNvSpPr txBox="1"/>
          <p:nvPr/>
        </p:nvSpPr>
        <p:spPr>
          <a:xfrm>
            <a:off x="1676520" y="228600"/>
            <a:ext cx="51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隶书"/>
              </a:rPr>
              <a:t>归纳：列式时的书写规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46" name="Picture 6" descr="post-1093-1114777432"/>
          <p:cNvPicPr/>
          <p:nvPr/>
        </p:nvPicPr>
        <p:blipFill>
          <a:blip r:embed="rId2"/>
          <a:stretch/>
        </p:blipFill>
        <p:spPr>
          <a:xfrm>
            <a:off x="990720" y="5562720"/>
            <a:ext cx="73911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-101520" y="1523880"/>
            <a:ext cx="9245520" cy="1954080"/>
            <a:chOff x="-101520" y="1523880"/>
            <a:chExt cx="9245520" cy="1954080"/>
          </a:xfrm>
        </p:grpSpPr>
        <p:sp>
          <p:nvSpPr>
            <p:cNvPr id="348" name="Text Box 3"/>
            <p:cNvSpPr/>
            <p:nvPr/>
          </p:nvSpPr>
          <p:spPr>
            <a:xfrm>
              <a:off x="-101520" y="1658880"/>
              <a:ext cx="92455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观察下列各式：   ，      ，      ，       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按此规律，第个    式子是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4192560" y="1523880"/>
              <a:ext cx="3238200" cy="687240"/>
              <a:chOff x="4192560" y="1523880"/>
              <a:chExt cx="3238200" cy="687240"/>
            </a:xfrm>
          </p:grpSpPr>
          <mc:AlternateContent>
            <mc:Choice xmlns:a14="http://schemas.microsoft.com/office/drawing/2010/main" Requires="a14">
              <p:sp>
                <p:nvSpPr>
                  <p:cNvPr id="350" name="Object 5"/>
                  <p:cNvSpPr txBox="1"/>
                  <p:nvPr/>
                </p:nvSpPr>
                <p:spPr>
                  <a:xfrm>
                    <a:off x="5776200" y="1523880"/>
                    <a:ext cx="779040" cy="687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1" name="Object 6"/>
                  <p:cNvSpPr txBox="1"/>
                  <p:nvPr/>
                </p:nvSpPr>
                <p:spPr>
                  <a:xfrm>
                    <a:off x="4192560" y="1684080"/>
                    <a:ext cx="437760" cy="50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2" name="Object 7"/>
                  <p:cNvSpPr txBox="1"/>
                  <p:nvPr/>
                </p:nvSpPr>
                <p:spPr>
                  <a:xfrm>
                    <a:off x="4839840" y="1523880"/>
                    <a:ext cx="809280" cy="67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3" name="Object 8"/>
                  <p:cNvSpPr txBox="1"/>
                  <p:nvPr/>
                </p:nvSpPr>
                <p:spPr>
                  <a:xfrm>
                    <a:off x="6639120" y="1536480"/>
                    <a:ext cx="791640" cy="66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54" name="Object 9"/>
                <p:cNvSpPr txBox="1"/>
                <p:nvPr/>
              </p:nvSpPr>
              <p:spPr>
                <a:xfrm>
                  <a:off x="2953440" y="2976480"/>
                  <a:ext cx="45504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13"/>
          <p:cNvGraphicFramePr/>
          <p:nvPr/>
        </p:nvGraphicFramePr>
        <p:xfrm>
          <a:off x="5105520" y="2514600"/>
          <a:ext cx="105876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514600"/>
                    <a:ext cx="10587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60" name="Picture 16" descr="post-1093-1114777432"/>
          <p:cNvPicPr/>
          <p:nvPr/>
        </p:nvPicPr>
        <p:blipFill>
          <a:blip r:embed="rId4"/>
          <a:stretch/>
        </p:blipFill>
        <p:spPr>
          <a:xfrm>
            <a:off x="228600" y="5715000"/>
            <a:ext cx="7391520" cy="952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4" descr="3"/>
          <p:cNvPicPr/>
          <p:nvPr/>
        </p:nvPicPr>
        <p:blipFill>
          <a:blip r:embed="rId5"/>
          <a:stretch/>
        </p:blipFill>
        <p:spPr>
          <a:xfrm>
            <a:off x="4648320" y="990720"/>
            <a:ext cx="3590640" cy="53316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28"/>
          <p:cNvGrpSpPr/>
          <p:nvPr/>
        </p:nvGrpSpPr>
        <p:grpSpPr>
          <a:xfrm>
            <a:off x="6691320" y="4103640"/>
            <a:ext cx="2452320" cy="2754360"/>
            <a:chOff x="6691320" y="4103640"/>
            <a:chExt cx="2452320" cy="2754360"/>
          </a:xfrm>
        </p:grpSpPr>
        <p:pic>
          <p:nvPicPr>
            <p:cNvPr id="363" name="Picture 29" descr="bsj"/>
            <p:cNvPicPr/>
            <p:nvPr/>
          </p:nvPicPr>
          <p:blipFill>
            <a:blip r:embed="rId6"/>
            <a:stretch/>
          </p:blipFill>
          <p:spPr>
            <a:xfrm>
              <a:off x="6691320" y="4774680"/>
              <a:ext cx="166608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30" descr="bsj"/>
            <p:cNvPicPr/>
            <p:nvPr/>
          </p:nvPicPr>
          <p:blipFill>
            <a:blip r:embed="rId7"/>
            <a:stretch/>
          </p:blipFill>
          <p:spPr>
            <a:xfrm>
              <a:off x="7662960" y="4103640"/>
              <a:ext cx="148068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31" descr="bsj"/>
            <p:cNvPicPr/>
            <p:nvPr/>
          </p:nvPicPr>
          <p:blipFill>
            <a:blip r:embed="rId8"/>
            <a:stretch/>
          </p:blipFill>
          <p:spPr>
            <a:xfrm>
              <a:off x="7662960" y="5237640"/>
              <a:ext cx="745920" cy="16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Text Box 23"/>
          <p:cNvSpPr/>
          <p:nvPr/>
        </p:nvSpPr>
        <p:spPr>
          <a:xfrm>
            <a:off x="380880" y="685800"/>
            <a:ext cx="1676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24"/>
          <p:cNvSpPr txBox="1"/>
          <p:nvPr/>
        </p:nvSpPr>
        <p:spPr>
          <a:xfrm>
            <a:off x="2819520" y="3808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99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隶书"/>
              </a:rPr>
              <a:t>能力提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99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68" name="Picture 25" descr="BUTTERFLY"/>
          <p:cNvPicPr/>
          <p:nvPr/>
        </p:nvPicPr>
        <p:blipFill>
          <a:blip r:embed="rId9"/>
          <a:stretch/>
        </p:blipFill>
        <p:spPr>
          <a:xfrm>
            <a:off x="7238880" y="4343400"/>
            <a:ext cx="1513080" cy="14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95280" y="40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测得一种树苗的高度与树苗生长的年数的有关数据如下表（树苗原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cm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），根据表格思考下面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260360" y="1701720"/>
          <a:ext cx="5327640" cy="3632400"/>
        </p:xfrm>
        <a:graphic>
          <a:graphicData uri="http://schemas.openxmlformats.org/drawingml/2006/table">
            <a:tbl>
              <a:tblPr/>
              <a:tblGrid>
                <a:gridCol w="2664000"/>
                <a:gridCol w="266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+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+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Text Box 29"/>
          <p:cNvSpPr/>
          <p:nvPr/>
        </p:nvSpPr>
        <p:spPr>
          <a:xfrm>
            <a:off x="684360" y="53737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前四年树苗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黑体"/>
              </a:rPr>
              <a:t>高度的变化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黑体"/>
              </a:rPr>
              <a:t>年数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有什么关系？假设以后各年树苗高度的变化与年数保持上述关系，用式子表示生长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年的树苗的高度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588000" y="220500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00+5×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634080" y="329400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00+5×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621480" y="275580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00+5×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621480" y="383220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00+5×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4495680" y="47973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0+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6"/>
          <p:cNvSpPr/>
          <p:nvPr/>
        </p:nvSpPr>
        <p:spPr>
          <a:xfrm>
            <a:off x="6950520" y="42274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79" name="Text Box 38"/>
          <p:cNvSpPr/>
          <p:nvPr/>
        </p:nvSpPr>
        <p:spPr>
          <a:xfrm>
            <a:off x="2413080" y="479736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0" y="0"/>
            <a:ext cx="1905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3"/>
          <p:cNvSpPr/>
          <p:nvPr/>
        </p:nvSpPr>
        <p:spPr>
          <a:xfrm>
            <a:off x="914400" y="914400"/>
            <a:ext cx="698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礼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座位，后面每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比前一排多一个座位．用式子表示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的座位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116000" y="3141720"/>
            <a:ext cx="684072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用整式表示实际问题中的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华文楷体"/>
              </a:rPr>
              <a:t>数量关系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华文楷体"/>
              </a:rPr>
              <a:t>变化规律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，可以从特殊值入手，借助表格等分析，由特殊到一般，由个体到整体地观察、分析问题，发现规律，并用含有字母的式子表示一般的结论，这体现了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华文楷体"/>
              </a:rPr>
              <a:t>抽象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的数学思想．</a:t>
            </a: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3419640" y="2205000"/>
                <a:ext cx="20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86" name="Text Box 9"/>
          <p:cNvSpPr/>
          <p:nvPr/>
        </p:nvSpPr>
        <p:spPr>
          <a:xfrm>
            <a:off x="762120" y="228600"/>
            <a:ext cx="1752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6"/>
          <p:cNvSpPr/>
          <p:nvPr/>
        </p:nvSpPr>
        <p:spPr>
          <a:xfrm>
            <a:off x="755640" y="907920"/>
            <a:ext cx="784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上面的问题中，既有已知数，又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用字母表示的未知数，字母表示数有什么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用含有字母的式子表示数量关系有什么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187280" y="3573360"/>
            <a:ext cx="640908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用字母表示数，字母和数一样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参与运算，可以用式子把数量关系简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地表示出来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33520" y="685800"/>
            <a:ext cx="828972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箱苹果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，每箱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一个数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，则这个数为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Garamond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全校学生总数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，其中女生占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%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，则女生人数是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Garamond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，男生人数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Garamond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某校前年购买计算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台，去年购买数量是前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倍，今年购买数量又是去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倍，则学校三年共购买计算机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Garamond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某班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名学生，现把一批图书分给全班学生阅读，如果每人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，还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本，则这批图书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Garamond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一个两位数，十位上的数字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，个位上的数字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，则这个两位数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Garamond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5334120" y="228600"/>
          <a:ext cx="53316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5331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5"/>
          <p:cNvGraphicFramePr/>
          <p:nvPr/>
        </p:nvGraphicFramePr>
        <p:xfrm>
          <a:off x="6477120" y="1143000"/>
          <a:ext cx="107460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43000"/>
                    <a:ext cx="10746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1752480" y="2209680"/>
          <a:ext cx="102420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209680"/>
                    <a:ext cx="10242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7"/>
          <p:cNvGraphicFramePr/>
          <p:nvPr/>
        </p:nvGraphicFramePr>
        <p:xfrm>
          <a:off x="4876920" y="2209680"/>
          <a:ext cx="89064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2209680"/>
                    <a:ext cx="890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8"/>
          <p:cNvGraphicFramePr/>
          <p:nvPr/>
        </p:nvGraphicFramePr>
        <p:xfrm>
          <a:off x="1066680" y="3733920"/>
          <a:ext cx="22528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733920"/>
                    <a:ext cx="22528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9"/>
          <p:cNvGraphicFramePr/>
          <p:nvPr/>
        </p:nvGraphicFramePr>
        <p:xfrm>
          <a:off x="6934320" y="4724280"/>
          <a:ext cx="1257120" cy="4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4724280"/>
                    <a:ext cx="12571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0"/>
          <p:cNvGraphicFramePr/>
          <p:nvPr/>
        </p:nvGraphicFramePr>
        <p:xfrm>
          <a:off x="3429000" y="5867280"/>
          <a:ext cx="1184400" cy="42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5867280"/>
                    <a:ext cx="11844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图片 6" descr="tb.png"/>
          <p:cNvPicPr/>
          <p:nvPr/>
        </p:nvPicPr>
        <p:blipFill>
          <a:blip r:embed="rId15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06" name="WordArt 12" descr=""/>
          <p:cNvPicPr/>
          <p:nvPr/>
        </p:nvPicPr>
        <p:blipFill>
          <a:blip r:embed="rId16"/>
          <a:stretch/>
        </p:blipFill>
        <p:spPr>
          <a:xfrm>
            <a:off x="2341440" y="-12600"/>
            <a:ext cx="2694240" cy="585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q"/>
          <p:cNvPicPr/>
          <p:nvPr/>
        </p:nvPicPr>
        <p:blipFill>
          <a:blip r:embed="rId17"/>
          <a:stretch/>
        </p:blipFill>
        <p:spPr>
          <a:xfrm>
            <a:off x="1295280" y="0"/>
            <a:ext cx="10670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14520" y="909720"/>
            <a:ext cx="858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含字母的式子表示下列数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一个数，则它的相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辆汽车的速度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，行驶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所走过的路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边长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方形的周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有理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数轴上的位置如图所示，化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-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=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3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5791320" y="28954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2895480" y="23623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705720" y="1371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6"/>
          <p:cNvGrpSpPr/>
          <p:nvPr/>
        </p:nvGrpSpPr>
        <p:grpSpPr>
          <a:xfrm>
            <a:off x="2514600" y="19080"/>
            <a:ext cx="2819520" cy="1293120"/>
            <a:chOff x="2514600" y="19080"/>
            <a:chExt cx="2819520" cy="1293120"/>
          </a:xfrm>
        </p:grpSpPr>
        <p:grpSp>
          <p:nvGrpSpPr>
            <p:cNvPr id="413" name="Group 7"/>
            <p:cNvGrpSpPr/>
            <p:nvPr/>
          </p:nvGrpSpPr>
          <p:grpSpPr>
            <a:xfrm>
              <a:off x="2514600" y="19080"/>
              <a:ext cx="2666880" cy="970920"/>
              <a:chOff x="2514600" y="19080"/>
              <a:chExt cx="2666880" cy="970920"/>
            </a:xfrm>
          </p:grpSpPr>
          <p:sp>
            <p:nvSpPr>
              <p:cNvPr id="414" name="AutoShape 8"/>
              <p:cNvSpPr/>
              <p:nvPr/>
            </p:nvSpPr>
            <p:spPr>
              <a:xfrm>
                <a:off x="2514600" y="109080"/>
                <a:ext cx="2605680" cy="8809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9"/>
              <p:cNvSpPr/>
              <p:nvPr/>
            </p:nvSpPr>
            <p:spPr>
              <a:xfrm>
                <a:off x="2544480" y="19080"/>
                <a:ext cx="263700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6" name="Picture 10" descr="打开书"/>
            <p:cNvPicPr/>
            <p:nvPr/>
          </p:nvPicPr>
          <p:blipFill>
            <a:blip r:embed="rId2"/>
            <a:stretch/>
          </p:blipFill>
          <p:spPr>
            <a:xfrm>
              <a:off x="3581280" y="243360"/>
              <a:ext cx="628920" cy="5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 Box 11"/>
            <p:cNvSpPr/>
            <p:nvPr/>
          </p:nvSpPr>
          <p:spPr>
            <a:xfrm>
              <a:off x="2590920" y="2433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课堂       检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6531120" y="5492880"/>
            <a:ext cx="74592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3200" spc="-1" strike="noStrike" baseline="50000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3133800" y="477216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b+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4" descr=""/>
          <p:cNvPicPr/>
          <p:nvPr/>
        </p:nvPicPr>
        <p:blipFill>
          <a:blip r:embed="rId3"/>
          <a:stretch/>
        </p:blipFill>
        <p:spPr>
          <a:xfrm>
            <a:off x="4846680" y="4543560"/>
            <a:ext cx="3462120" cy="5904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5"/>
          <p:cNvSpPr/>
          <p:nvPr/>
        </p:nvSpPr>
        <p:spPr>
          <a:xfrm>
            <a:off x="2728800" y="407988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+b-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8"/>
          <p:cNvGrpSpPr/>
          <p:nvPr/>
        </p:nvGrpSpPr>
        <p:grpSpPr>
          <a:xfrm>
            <a:off x="6934320" y="4343400"/>
            <a:ext cx="2452320" cy="2754360"/>
            <a:chOff x="6934320" y="4343400"/>
            <a:chExt cx="2452320" cy="2754360"/>
          </a:xfrm>
        </p:grpSpPr>
        <p:pic>
          <p:nvPicPr>
            <p:cNvPr id="423" name="Picture 29" descr="bsj"/>
            <p:cNvPicPr/>
            <p:nvPr/>
          </p:nvPicPr>
          <p:blipFill>
            <a:blip r:embed="rId4"/>
            <a:stretch/>
          </p:blipFill>
          <p:spPr>
            <a:xfrm>
              <a:off x="6934320" y="5014440"/>
              <a:ext cx="166608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0" descr="bsj"/>
            <p:cNvPicPr/>
            <p:nvPr/>
          </p:nvPicPr>
          <p:blipFill>
            <a:blip r:embed="rId5"/>
            <a:stretch/>
          </p:blipFill>
          <p:spPr>
            <a:xfrm>
              <a:off x="7905960" y="4343400"/>
              <a:ext cx="148068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31" descr="bsj"/>
            <p:cNvPicPr/>
            <p:nvPr/>
          </p:nvPicPr>
          <p:blipFill>
            <a:blip r:embed="rId6"/>
            <a:stretch/>
          </p:blipFill>
          <p:spPr>
            <a:xfrm>
              <a:off x="7905960" y="5477400"/>
              <a:ext cx="745920" cy="16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WordArt 4" descr="粉色面巾纸"/>
          <p:cNvPicPr/>
          <p:nvPr/>
        </p:nvPicPr>
        <p:blipFill>
          <a:blip r:embed="rId1"/>
          <a:stretch/>
        </p:blipFill>
        <p:spPr>
          <a:xfrm>
            <a:off x="1432080" y="1884240"/>
            <a:ext cx="4822560" cy="547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1" descr="fanchuan02帆船"/>
          <p:cNvPicPr/>
          <p:nvPr/>
        </p:nvPicPr>
        <p:blipFill>
          <a:blip r:embed="rId2"/>
          <a:stretch/>
        </p:blipFill>
        <p:spPr>
          <a:xfrm>
            <a:off x="6934320" y="4800600"/>
            <a:ext cx="1728720" cy="13413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990720" y="28195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1" lang="zh-CN" sz="4300" spc="-1" strike="noStrike">
                <a:solidFill>
                  <a:srgbClr val="009900"/>
                </a:solidFill>
                <a:latin typeface="Arial"/>
                <a:ea typeface="华文行楷"/>
              </a:rPr>
              <a:t>我收获了</a:t>
            </a:r>
            <a:r>
              <a:rPr b="1" lang="en-US" sz="4300" spc="-1" strike="noStrike">
                <a:solidFill>
                  <a:srgbClr val="009900"/>
                </a:solidFill>
                <a:latin typeface="Arial"/>
                <a:ea typeface="华文行楷"/>
              </a:rPr>
              <a:t>…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1" lang="zh-CN" sz="4300" spc="-1" strike="noStrike">
                <a:solidFill>
                  <a:srgbClr val="ff0066"/>
                </a:solidFill>
                <a:latin typeface="Arial"/>
                <a:ea typeface="华文行楷"/>
              </a:rPr>
              <a:t>我对同学们的温馨提示是</a:t>
            </a:r>
            <a:r>
              <a:rPr b="1" lang="en-US" sz="4300" spc="-1" strike="noStrike">
                <a:solidFill>
                  <a:srgbClr val="ff0066"/>
                </a:solidFill>
                <a:latin typeface="Arial"/>
                <a:ea typeface="华文行楷"/>
              </a:rPr>
              <a:t>…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1" lang="zh-CN" sz="4300" spc="-1" strike="noStrike">
                <a:solidFill>
                  <a:srgbClr val="0000cc"/>
                </a:solidFill>
                <a:latin typeface="Arial"/>
                <a:ea typeface="华文行楷"/>
              </a:rPr>
              <a:t>我还感到疑惑的是</a:t>
            </a:r>
            <a:r>
              <a:rPr b="1" lang="en-US" sz="4300" spc="-1" strike="noStrike">
                <a:solidFill>
                  <a:srgbClr val="0000cc"/>
                </a:solidFill>
                <a:latin typeface="Arial"/>
                <a:ea typeface="华文行楷"/>
              </a:rPr>
              <a:t>…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5"/>
          <p:cNvSpPr txBox="1"/>
          <p:nvPr/>
        </p:nvSpPr>
        <p:spPr>
          <a:xfrm>
            <a:off x="914400" y="609480"/>
            <a:ext cx="2743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畅所欲言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0" name="Picture 6" descr="post-1093-1114777432"/>
          <p:cNvPicPr/>
          <p:nvPr/>
        </p:nvPicPr>
        <p:blipFill>
          <a:blip r:embed="rId3"/>
          <a:stretch/>
        </p:blipFill>
        <p:spPr>
          <a:xfrm>
            <a:off x="762120" y="5905440"/>
            <a:ext cx="7391160" cy="952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4" descr="3"/>
          <p:cNvPicPr/>
          <p:nvPr/>
        </p:nvPicPr>
        <p:blipFill>
          <a:blip r:embed="rId4"/>
          <a:stretch/>
        </p:blipFill>
        <p:spPr>
          <a:xfrm>
            <a:off x="4495680" y="533520"/>
            <a:ext cx="3591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>
            <a:hlinkClick r:id="rId1" action="ppaction://hlinksldjump"/>
          </p:cNvPr>
          <p:cNvSpPr/>
          <p:nvPr/>
        </p:nvSpPr>
        <p:spPr>
          <a:xfrm>
            <a:off x="2057400" y="6095880"/>
            <a:ext cx="5181480" cy="762120"/>
          </a:xfrm>
          <a:custGeom>
            <a:avLst/>
            <a:gdLst>
              <a:gd name="textAreaLeft" fmla="*/ 49320 w 5181480"/>
              <a:gd name="textAreaRight" fmla="*/ 5132160 w 5181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6794" h="21600">
                <a:moveTo>
                  <a:pt x="0" y="0"/>
                </a:moveTo>
                <a:lnTo>
                  <a:pt x="146794" y="0"/>
                </a:lnTo>
                <a:lnTo>
                  <a:pt x="146794" y="21600"/>
                </a:lnTo>
                <a:lnTo>
                  <a:pt x="0" y="21600"/>
                </a:lnTo>
                <a:close/>
              </a:path>
              <a:path fill="lightenLess" w="146794" h="21600">
                <a:moveTo>
                  <a:pt x="0" y="0"/>
                </a:moveTo>
                <a:lnTo>
                  <a:pt x="146794" y="0"/>
                </a:lnTo>
                <a:lnTo>
                  <a:pt x="145394" y="1400"/>
                </a:lnTo>
                <a:lnTo>
                  <a:pt x="1400" y="1400"/>
                </a:lnTo>
                <a:close/>
              </a:path>
              <a:path fill="darken" w="146794" h="21600">
                <a:moveTo>
                  <a:pt x="146794" y="0"/>
                </a:moveTo>
                <a:lnTo>
                  <a:pt x="146794" y="21600"/>
                </a:lnTo>
                <a:lnTo>
                  <a:pt x="145394" y="20200"/>
                </a:lnTo>
                <a:lnTo>
                  <a:pt x="145394" y="1400"/>
                </a:lnTo>
                <a:close/>
              </a:path>
              <a:path fill="darkenLess" w="146794" h="21600">
                <a:moveTo>
                  <a:pt x="1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394" y="20200"/>
                </a:lnTo>
                <a:close/>
              </a:path>
              <a:path fill="lighten" w="1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34"/>
          <p:cNvPicPr/>
          <p:nvPr/>
        </p:nvPicPr>
        <p:blipFill>
          <a:blip r:embed="rId2"/>
          <a:stretch/>
        </p:blipFill>
        <p:spPr>
          <a:xfrm>
            <a:off x="685800" y="68580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4"/>
          <p:cNvSpPr/>
          <p:nvPr/>
        </p:nvSpPr>
        <p:spPr>
          <a:xfrm>
            <a:off x="457200" y="1295280"/>
            <a:ext cx="81313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必做题：教科书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做题：教科书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WordArt 6" descr=""/>
          <p:cNvPicPr/>
          <p:nvPr/>
        </p:nvPicPr>
        <p:blipFill>
          <a:blip r:embed="rId3"/>
          <a:stretch/>
        </p:blipFill>
        <p:spPr>
          <a:xfrm>
            <a:off x="1974960" y="12600"/>
            <a:ext cx="4511520" cy="1822680"/>
          </a:xfrm>
          <a:prstGeom prst="rect">
            <a:avLst/>
          </a:prstGeom>
          <a:ln w="0">
            <a:noFill/>
          </a:ln>
        </p:spPr>
      </p:pic>
      <p:sp>
        <p:nvSpPr>
          <p:cNvPr id="436" name="WordArt 7"/>
          <p:cNvSpPr txBox="1"/>
          <p:nvPr/>
        </p:nvSpPr>
        <p:spPr>
          <a:xfrm>
            <a:off x="990720" y="5181480"/>
            <a:ext cx="5832360" cy="71640"/>
          </a:xfrm>
          <a:prstGeom prst="rect">
            <a:avLst/>
          </a:prstGeom>
        </p:spPr>
        <p:txBody>
          <a:bodyPr wrap="none" fromWordArt="1" lIns="90000" rIns="90000" tIns="25200" bIns="2520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Good  Bey!</a:t>
            </a:r>
            <a:endParaRPr b="1" i="1" lang="en-US" sz="66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7" name="Picture 8" descr="星08"/>
          <p:cNvPicPr/>
          <p:nvPr/>
        </p:nvPicPr>
        <p:blipFill>
          <a:blip r:embed="rId4"/>
          <a:stretch/>
        </p:blipFill>
        <p:spPr>
          <a:xfrm>
            <a:off x="7315200" y="4572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星08"/>
          <p:cNvPicPr/>
          <p:nvPr/>
        </p:nvPicPr>
        <p:blipFill>
          <a:blip r:embed="rId5"/>
          <a:stretch/>
        </p:blipFill>
        <p:spPr>
          <a:xfrm>
            <a:off x="7391520" y="990720"/>
            <a:ext cx="1258920" cy="790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星08"/>
          <p:cNvPicPr/>
          <p:nvPr/>
        </p:nvPicPr>
        <p:blipFill>
          <a:blip r:embed="rId6"/>
          <a:stretch/>
        </p:blipFill>
        <p:spPr>
          <a:xfrm>
            <a:off x="374760" y="467532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1" descr="星08"/>
          <p:cNvPicPr/>
          <p:nvPr/>
        </p:nvPicPr>
        <p:blipFill>
          <a:blip r:embed="rId7"/>
          <a:stretch/>
        </p:blipFill>
        <p:spPr>
          <a:xfrm>
            <a:off x="609480" y="53341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u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WordArt 3"/>
          <p:cNvSpPr txBox="1"/>
          <p:nvPr/>
        </p:nvSpPr>
        <p:spPr>
          <a:xfrm>
            <a:off x="468360" y="3500280"/>
            <a:ext cx="8400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向前走一步，再向前走一步，你就成功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68360" y="1341360"/>
            <a:ext cx="820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解字母表示数的意义，会用含有字母的式子表示实际问题中的数量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历用含有字母的式子表示实际问题的数量关系的过程，体会从具体到抽象的认识过程，发展符号意识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解字母表示数的意义，正确分析实际问题中的数量关系并用含有字母的式子表示数量关系，感受其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抽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数学思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ilecab3"/>
          <p:cNvSpPr/>
          <p:nvPr/>
        </p:nvSpPr>
        <p:spPr>
          <a:xfrm rot="10800000">
            <a:off x="2916000" y="403920"/>
            <a:ext cx="2849400" cy="838440"/>
          </a:xfrm>
          <a:prstGeom prst="pi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ilecab3"/>
          <p:cNvSpPr/>
          <p:nvPr/>
        </p:nvSpPr>
        <p:spPr>
          <a:xfrm rot="10800000">
            <a:off x="2916000" y="3357720"/>
            <a:ext cx="2849400" cy="838080"/>
          </a:xfrm>
          <a:prstGeom prst="pi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学习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609480" y="304920"/>
            <a:ext cx="304920" cy="304560"/>
          </a:xfrm>
          <a:custGeom>
            <a:avLst/>
            <a:gdLst>
              <a:gd name="textAreaLeft" fmla="*/ 116640 w 304920"/>
              <a:gd name="textAreaRight" fmla="*/ 188280 w 304920"/>
              <a:gd name="textAreaTop" fmla="*/ 116640 h 304560"/>
              <a:gd name="textAreaBottom" fmla="*/ 187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67" y="8267"/>
                </a:lnTo>
                <a:lnTo>
                  <a:pt x="10800" y="0"/>
                </a:lnTo>
                <a:lnTo>
                  <a:pt x="13333" y="8267"/>
                </a:lnTo>
                <a:lnTo>
                  <a:pt x="21600" y="10800"/>
                </a:lnTo>
                <a:lnTo>
                  <a:pt x="13333" y="13333"/>
                </a:lnTo>
                <a:lnTo>
                  <a:pt x="10800" y="21600"/>
                </a:lnTo>
                <a:lnTo>
                  <a:pt x="8267" y="13333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914400" y="533520"/>
            <a:ext cx="304920" cy="304560"/>
          </a:xfrm>
          <a:custGeom>
            <a:avLst/>
            <a:gdLst>
              <a:gd name="textAreaLeft" fmla="*/ 116640 w 304920"/>
              <a:gd name="textAreaRight" fmla="*/ 188280 w 304920"/>
              <a:gd name="textAreaTop" fmla="*/ 116640 h 304560"/>
              <a:gd name="textAreaBottom" fmla="*/ 187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67" y="8267"/>
                </a:lnTo>
                <a:lnTo>
                  <a:pt x="10800" y="0"/>
                </a:lnTo>
                <a:lnTo>
                  <a:pt x="13333" y="8267"/>
                </a:lnTo>
                <a:lnTo>
                  <a:pt x="21600" y="10800"/>
                </a:lnTo>
                <a:lnTo>
                  <a:pt x="13333" y="13333"/>
                </a:lnTo>
                <a:lnTo>
                  <a:pt x="10800" y="21600"/>
                </a:lnTo>
                <a:lnTo>
                  <a:pt x="8267" y="13333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609480" y="838080"/>
            <a:ext cx="304920" cy="304920"/>
          </a:xfrm>
          <a:custGeom>
            <a:avLst/>
            <a:gdLst>
              <a:gd name="textAreaLeft" fmla="*/ 116640 w 304920"/>
              <a:gd name="textAreaRight" fmla="*/ 188280 w 304920"/>
              <a:gd name="textAreaTop" fmla="*/ 116640 h 304920"/>
              <a:gd name="textAreaBottom" fmla="*/ 188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67" y="8267"/>
                </a:lnTo>
                <a:lnTo>
                  <a:pt x="10800" y="0"/>
                </a:lnTo>
                <a:lnTo>
                  <a:pt x="13333" y="8267"/>
                </a:lnTo>
                <a:lnTo>
                  <a:pt x="21600" y="10800"/>
                </a:lnTo>
                <a:lnTo>
                  <a:pt x="13333" y="13333"/>
                </a:lnTo>
                <a:lnTo>
                  <a:pt x="10800" y="21600"/>
                </a:lnTo>
                <a:lnTo>
                  <a:pt x="8267" y="13333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星08"/>
          <p:cNvPicPr/>
          <p:nvPr/>
        </p:nvPicPr>
        <p:blipFill>
          <a:blip r:embed="rId1"/>
          <a:stretch/>
        </p:blipFill>
        <p:spPr>
          <a:xfrm>
            <a:off x="7772400" y="152280"/>
            <a:ext cx="884160" cy="884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星08"/>
          <p:cNvPicPr/>
          <p:nvPr/>
        </p:nvPicPr>
        <p:blipFill>
          <a:blip r:embed="rId2"/>
          <a:stretch/>
        </p:blipFill>
        <p:spPr>
          <a:xfrm>
            <a:off x="7620120" y="762120"/>
            <a:ext cx="1258920" cy="790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post-1093-1114777432"/>
          <p:cNvPicPr/>
          <p:nvPr/>
        </p:nvPicPr>
        <p:blipFill>
          <a:blip r:embed="rId3"/>
          <a:stretch/>
        </p:blipFill>
        <p:spPr>
          <a:xfrm>
            <a:off x="0" y="5905440"/>
            <a:ext cx="91440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88720" y="-62280"/>
            <a:ext cx="1127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展示图片</a:t>
            </a: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4643280" cy="3244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4584600" y="380880"/>
            <a:ext cx="4559400" cy="3311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4653000" y="3659040"/>
            <a:ext cx="4491000" cy="3198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tretch/>
        </p:blipFill>
        <p:spPr>
          <a:xfrm>
            <a:off x="0" y="3638520"/>
            <a:ext cx="4648320" cy="32194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6" descr="tb.png"/>
          <p:cNvPicPr/>
          <p:nvPr/>
        </p:nvPicPr>
        <p:blipFill>
          <a:blip r:embed="rId5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59476_54162_lvyou[1]"/>
          <p:cNvPicPr/>
          <p:nvPr/>
        </p:nvPicPr>
        <p:blipFill>
          <a:blip r:embed="rId1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0" y="685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青藏铁路上，在格尔木到拉萨之间有一段很长的冻土地段。列车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冻土地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行驶速度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千米／小时，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非冻土地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行驶速度可以达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千米／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24000" y="22050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ff"/>
                </a:solidFill>
                <a:latin typeface="黑体"/>
                <a:ea typeface="黑体"/>
              </a:rPr>
              <a:t>请根据资料回答下面的问题：</a:t>
            </a:r>
            <a:r>
              <a:rPr b="1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车在冻土地段行驶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能行驶多少千米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呢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1476360" y="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92929"/>
                </a:solidFill>
                <a:latin typeface="Arial"/>
              </a:rPr>
              <a:t>青藏铁路创造的世界之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4495680" y="3429000"/>
            <a:ext cx="4648320" cy="1828800"/>
          </a:xfrm>
          <a:prstGeom prst="wedgeRoundRectCallout">
            <a:avLst>
              <a:gd name="adj1" fmla="val -87638"/>
              <a:gd name="adj2" fmla="val 97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含有字母的式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若出现乘号，通常将乘号写作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•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或省略不写。如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×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•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>
            <a:hlinkClick r:id="" action="ppaction://hlinkshowjump?jump=nextslide"/>
          </p:cNvPr>
          <p:cNvSpPr/>
          <p:nvPr/>
        </p:nvSpPr>
        <p:spPr>
          <a:xfrm>
            <a:off x="0" y="37339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解：它</a:t>
            </a: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小时行驶的路程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100×2=200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（千米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762120" y="55627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黑体"/>
                <a:ea typeface="黑体"/>
              </a:rPr>
              <a:t>t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小时行驶的路程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×t=100t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762120" y="46483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小时行驶的路程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100×3=300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4724280" y="5334120"/>
            <a:ext cx="3276720" cy="1523880"/>
          </a:xfrm>
          <a:prstGeom prst="cloudCallout">
            <a:avLst>
              <a:gd name="adj1" fmla="val -104458"/>
              <a:gd name="adj2" fmla="val 2802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含有字母的式子表示数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68360" y="83664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苹果原价是每千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，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优惠出售，用式子表示现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产品前年的产量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件，去年的产量是前年产量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用式子表示去年的产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52280" y="152280"/>
            <a:ext cx="1600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276" name="Group 6"/>
          <p:cNvGrpSpPr/>
          <p:nvPr/>
        </p:nvGrpSpPr>
        <p:grpSpPr>
          <a:xfrm>
            <a:off x="6778080" y="5445000"/>
            <a:ext cx="1479960" cy="520560"/>
            <a:chOff x="6778080" y="5445000"/>
            <a:chExt cx="1479960" cy="520560"/>
          </a:xfrm>
        </p:grpSpPr>
        <mc:AlternateContent>
          <mc:Choice xmlns:a14="http://schemas.microsoft.com/office/drawing/2010/main" Requires="a14">
            <p:sp>
              <p:nvSpPr>
                <p:cNvPr id="277" name="Object 7"/>
                <p:cNvSpPr txBox="1"/>
                <p:nvPr/>
              </p:nvSpPr>
              <p:spPr>
                <a:xfrm>
                  <a:off x="7537320" y="5512680"/>
                  <a:ext cx="7207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Text Box 8"/>
            <p:cNvSpPr/>
            <p:nvPr/>
          </p:nvSpPr>
          <p:spPr>
            <a:xfrm>
              <a:off x="6778080" y="544500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9"/>
          <p:cNvGrpSpPr/>
          <p:nvPr/>
        </p:nvGrpSpPr>
        <p:grpSpPr>
          <a:xfrm>
            <a:off x="844560" y="3616200"/>
            <a:ext cx="2879640" cy="576360"/>
            <a:chOff x="844560" y="3616200"/>
            <a:chExt cx="2879640" cy="576360"/>
          </a:xfrm>
        </p:grpSpPr>
        <p:graphicFrame>
          <p:nvGraphicFramePr>
            <p:cNvPr id="280" name="Object 10"/>
            <p:cNvGraphicFramePr/>
            <p:nvPr/>
          </p:nvGraphicFramePr>
          <p:xfrm>
            <a:off x="2315880" y="3674520"/>
            <a:ext cx="896040" cy="518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1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5880" y="3674520"/>
                      <a:ext cx="896040" cy="51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Text Box 11"/>
            <p:cNvSpPr/>
            <p:nvPr/>
          </p:nvSpPr>
          <p:spPr>
            <a:xfrm>
              <a:off x="1493280" y="3616200"/>
              <a:ext cx="22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）</a:t>
              </a:r>
              <a:r>
                <a:rPr b="1" lang="zh-CN" sz="1800" spc="-1" strike="noStrike">
                  <a:solidFill>
                    <a:srgbClr val="000000"/>
                  </a:solidFill>
                  <a:latin typeface="Garamond"/>
                </a:rPr>
                <a:t>              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844560" y="3616200"/>
              <a:ext cx="143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3"/>
          <p:cNvGrpSpPr/>
          <p:nvPr/>
        </p:nvGrpSpPr>
        <p:grpSpPr>
          <a:xfrm>
            <a:off x="3505320" y="3657600"/>
            <a:ext cx="1891440" cy="520560"/>
            <a:chOff x="3505320" y="3657600"/>
            <a:chExt cx="1891440" cy="520560"/>
          </a:xfrm>
        </p:grpSpPr>
        <mc:AlternateContent>
          <mc:Choice xmlns:a14="http://schemas.microsoft.com/office/drawing/2010/main" Requires="a14">
            <p:sp>
              <p:nvSpPr>
                <p:cNvPr id="285" name="Object 14"/>
                <p:cNvSpPr txBox="1"/>
                <p:nvPr/>
              </p:nvSpPr>
              <p:spPr>
                <a:xfrm>
                  <a:off x="4296600" y="3729960"/>
                  <a:ext cx="72072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Text Box 15"/>
            <p:cNvSpPr/>
            <p:nvPr/>
          </p:nvSpPr>
          <p:spPr>
            <a:xfrm>
              <a:off x="3505320" y="36576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6"/>
            <p:cNvSpPr/>
            <p:nvPr/>
          </p:nvSpPr>
          <p:spPr>
            <a:xfrm>
              <a:off x="4964760" y="37303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Garamond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7"/>
          <p:cNvGrpSpPr/>
          <p:nvPr/>
        </p:nvGrpSpPr>
        <p:grpSpPr>
          <a:xfrm>
            <a:off x="4906440" y="5318280"/>
            <a:ext cx="1917000" cy="649080"/>
            <a:chOff x="4906440" y="5318280"/>
            <a:chExt cx="1917000" cy="649080"/>
          </a:xfrm>
        </p:grpSpPr>
        <p:graphicFrame>
          <p:nvGraphicFramePr>
            <p:cNvPr id="289" name="Object 18"/>
            <p:cNvGraphicFramePr/>
            <p:nvPr/>
          </p:nvGraphicFramePr>
          <p:xfrm>
            <a:off x="5593680" y="5318280"/>
            <a:ext cx="864720" cy="649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0" name="Object 1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93680" y="5318280"/>
                      <a:ext cx="86472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Text Box 19"/>
            <p:cNvSpPr/>
            <p:nvPr/>
          </p:nvSpPr>
          <p:spPr>
            <a:xfrm>
              <a:off x="4906440" y="544500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0"/>
            <p:cNvSpPr/>
            <p:nvPr/>
          </p:nvSpPr>
          <p:spPr>
            <a:xfrm>
              <a:off x="6391440" y="5517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Garamond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22"/>
          <p:cNvSpPr/>
          <p:nvPr/>
        </p:nvSpPr>
        <p:spPr>
          <a:xfrm>
            <a:off x="380880" y="34290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长方体包装盒的长和宽都是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高是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用式子表示它的体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式子表示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相反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24"/>
          <p:cNvSpPr txBox="1"/>
          <p:nvPr/>
        </p:nvSpPr>
        <p:spPr>
          <a:xfrm>
            <a:off x="3276720" y="342900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试一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5" name="Picture 25" descr="图片4"/>
          <p:cNvPicPr/>
          <p:nvPr/>
        </p:nvPicPr>
        <p:blipFill>
          <a:blip r:embed="rId6"/>
          <a:srcRect l="0" t="0" r="-1590" b="62441"/>
          <a:stretch/>
        </p:blipFill>
        <p:spPr>
          <a:xfrm>
            <a:off x="3124080" y="0"/>
            <a:ext cx="24148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00017 0.26412 E">
                                      <p:cBhvr>
                                        <p:cTn id="7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-0.00452 0.26227 E">
                                      <p:cBhvr>
                                        <p:cTn id="78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0920" y="76500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一条河的水流速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 km/h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，船在静水中的速度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/h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，用式子表示船在这条河中顺水行驶和逆水行驶时的速度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买一个篮球需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元，买一个排球需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元，买一个足球需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z 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元，用式子表示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个篮球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个排球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个足球共需要的钱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164360" y="3284640"/>
            <a:ext cx="24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971640" y="566100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02" name="Text Box 10"/>
          <p:cNvSpPr/>
          <p:nvPr/>
        </p:nvSpPr>
        <p:spPr>
          <a:xfrm>
            <a:off x="228600" y="2209680"/>
            <a:ext cx="8496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析：船在河流中行驶时，船的速度需要分两种情况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水行驶时：船的速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船在静水中的速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水的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逆水行驶时：船的速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船在静水中的速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水的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152280" y="0"/>
            <a:ext cx="198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0" y="2362320"/>
            <a:ext cx="890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船在这条河中顺水行驶的速度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2.5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m/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    逆水行驶的速度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2.5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m/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152280" y="51055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买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篮球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排球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足球共需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6172200" y="4648320"/>
            <a:ext cx="2971800" cy="1904760"/>
          </a:xfrm>
          <a:prstGeom prst="wedgeEllipseCallout">
            <a:avLst>
              <a:gd name="adj1" fmla="val -102509"/>
              <a:gd name="adj2" fmla="val 16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华文行楷"/>
              </a:rPr>
              <a:t>一个式子后面带有单位时，这个式子必须加括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图片4"/>
          <p:cNvPicPr/>
          <p:nvPr/>
        </p:nvPicPr>
        <p:blipFill>
          <a:blip r:embed="rId2"/>
          <a:srcRect l="0" t="0" r="-1590" b="62441"/>
          <a:stretch/>
        </p:blipFill>
        <p:spPr>
          <a:xfrm>
            <a:off x="2971800" y="152280"/>
            <a:ext cx="241452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95280" y="63036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如左下图（图中长度单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），用式子表示三角尺的面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右 下图是一所住宅的建筑平面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图中长度单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），用式子表示这所住宅的建筑面积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059280" y="1341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971640" y="566100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14" name="Picture 10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6477120" cy="3238560"/>
          </a:xfrm>
          <a:prstGeom prst="rect">
            <a:avLst/>
          </a:prstGeom>
          <a:ln w="0">
            <a:noFill/>
          </a:ln>
        </p:spPr>
      </p:pic>
      <p:sp>
        <p:nvSpPr>
          <p:cNvPr id="315" name="WordArt 12"/>
          <p:cNvSpPr txBox="1"/>
          <p:nvPr/>
        </p:nvSpPr>
        <p:spPr>
          <a:xfrm>
            <a:off x="3352680" y="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试一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316" name="Group 13"/>
          <p:cNvGrpSpPr/>
          <p:nvPr/>
        </p:nvGrpSpPr>
        <p:grpSpPr>
          <a:xfrm>
            <a:off x="533520" y="1447920"/>
            <a:ext cx="6324480" cy="947520"/>
            <a:chOff x="533520" y="1447920"/>
            <a:chExt cx="6324480" cy="947520"/>
          </a:xfrm>
        </p:grpSpPr>
        <p:graphicFrame>
          <p:nvGraphicFramePr>
            <p:cNvPr id="317" name="Object 14"/>
            <p:cNvGraphicFramePr/>
            <p:nvPr/>
          </p:nvGraphicFramePr>
          <p:xfrm>
            <a:off x="4114800" y="1447920"/>
            <a:ext cx="1543320" cy="94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1447920"/>
                      <a:ext cx="1543320" cy="94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Text Box 15"/>
            <p:cNvSpPr/>
            <p:nvPr/>
          </p:nvSpPr>
          <p:spPr>
            <a:xfrm>
              <a:off x="533520" y="1676160"/>
              <a:ext cx="63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解：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三角尺的面积是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(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m</a:t>
              </a:r>
              <a:r>
                <a:rPr b="1" i="1" lang="en-US" sz="2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16"/>
          <p:cNvSpPr/>
          <p:nvPr/>
        </p:nvSpPr>
        <p:spPr>
          <a:xfrm>
            <a:off x="304920" y="3200400"/>
            <a:ext cx="69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住宅的建筑面积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18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7"/>
          <p:cNvSpPr/>
          <p:nvPr/>
        </p:nvSpPr>
        <p:spPr>
          <a:xfrm>
            <a:off x="6629400" y="1066680"/>
            <a:ext cx="2514600" cy="1371600"/>
          </a:xfrm>
          <a:prstGeom prst="cloudCallout">
            <a:avLst>
              <a:gd name="adj1" fmla="val -59217"/>
              <a:gd name="adj2" fmla="val 103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一个式子后面带有单位时，这个式子必须加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8" descr="q"/>
          <p:cNvPicPr/>
          <p:nvPr/>
        </p:nvPicPr>
        <p:blipFill>
          <a:blip r:embed="rId5"/>
          <a:stretch/>
        </p:blipFill>
        <p:spPr>
          <a:xfrm>
            <a:off x="1752480" y="0"/>
            <a:ext cx="12956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79280" y="685800"/>
            <a:ext cx="896472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某种商品每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，在一个月内的销售量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袋，用式子表示在这个月内销售这种商品的收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圆柱体的底面半径、高分别是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用式子表示圆柱体的体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有两片棉田，一片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h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平均每公顷产棉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另一片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平均每公顷产棉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用式子表示两片棉田上棉花的总产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一个大正方形铁片中挖去一个小正方形铁片，大正方形的边长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小正方形的边长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用式子表示剩余部分的面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8"/>
          <p:cNvGraphicFramePr/>
          <p:nvPr/>
        </p:nvGraphicFramePr>
        <p:xfrm>
          <a:off x="6324480" y="1371600"/>
          <a:ext cx="13003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371600"/>
                    <a:ext cx="1300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9"/>
          <p:cNvGraphicFramePr/>
          <p:nvPr/>
        </p:nvGraphicFramePr>
        <p:xfrm>
          <a:off x="6553080" y="2438280"/>
          <a:ext cx="8557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438280"/>
                    <a:ext cx="8557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0"/>
          <p:cNvGraphicFramePr/>
          <p:nvPr/>
        </p:nvGraphicFramePr>
        <p:xfrm>
          <a:off x="5943600" y="4038480"/>
          <a:ext cx="220032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038480"/>
                    <a:ext cx="22003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1"/>
          <p:cNvGraphicFramePr/>
          <p:nvPr/>
        </p:nvGraphicFramePr>
        <p:xfrm>
          <a:off x="5943600" y="5562720"/>
          <a:ext cx="23464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5562720"/>
                    <a:ext cx="2346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5" name="图片 6" descr="tb.png"/>
          <p:cNvPicPr/>
          <p:nvPr/>
        </p:nvPicPr>
        <p:blipFill>
          <a:blip r:embed="rId9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6" name="WordArt 13" descr=""/>
          <p:cNvPicPr/>
          <p:nvPr/>
        </p:nvPicPr>
        <p:blipFill>
          <a:blip r:embed="rId10"/>
          <a:stretch/>
        </p:blipFill>
        <p:spPr>
          <a:xfrm>
            <a:off x="2152800" y="-12600"/>
            <a:ext cx="2809800" cy="81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q"/>
          <p:cNvPicPr/>
          <p:nvPr/>
        </p:nvPicPr>
        <p:blipFill>
          <a:blip r:embed="rId11"/>
          <a:stretch/>
        </p:blipFill>
        <p:spPr>
          <a:xfrm>
            <a:off x="5029200" y="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6" descr="1237898"/>
          <p:cNvPicPr/>
          <p:nvPr/>
        </p:nvPicPr>
        <p:blipFill>
          <a:blip r:embed="rId12"/>
          <a:stretch/>
        </p:blipFill>
        <p:spPr>
          <a:xfrm flipH="1" rot="10800000">
            <a:off x="0" y="5835240"/>
            <a:ext cx="9144000" cy="10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304920" y="1295280"/>
            <a:ext cx="7921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式就是把实际问题中与数量有关的语句，用含有数、字母和运算符号的式子表示出来，也就是把文字语言转化为符号语言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要抓住关键词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明确它们的意义以及它们    之间的关系，如和、差、积、商及大、小、多、少、倍、分、倒数、相反数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清语句层次明确运算顺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牢记一些概念和公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41" name="WordArt 5" descr=""/>
          <p:cNvPicPr/>
          <p:nvPr/>
        </p:nvPicPr>
        <p:blipFill>
          <a:blip r:embed="rId2"/>
          <a:stretch/>
        </p:blipFill>
        <p:spPr>
          <a:xfrm>
            <a:off x="1968480" y="291960"/>
            <a:ext cx="37558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post-1093-1114777432"/>
          <p:cNvPicPr/>
          <p:nvPr/>
        </p:nvPicPr>
        <p:blipFill>
          <a:blip r:embed="rId3"/>
          <a:stretch/>
        </p:blipFill>
        <p:spPr>
          <a:xfrm>
            <a:off x="1143000" y="5715000"/>
            <a:ext cx="7391520" cy="95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7T11:39:51Z</dcterms:created>
  <dc:creator>Administrator</dc:creator>
  <dc:description/>
  <dc:language>en-US</dc:language>
  <cp:lastModifiedBy>Administrator</cp:lastModifiedBy>
  <dcterms:modified xsi:type="dcterms:W3CDTF">2014-11-06T11:24:46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