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6217-D9BD-46E6-BE21-CC22798D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9016-E04A-46FD-917E-36471CD6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BBE21-84F0-46DD-8896-B5A9D769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BF514-9BCD-4522-8429-0303B3D0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28130C-0CD3-4B6E-BEAF-15F92836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E730A2-BF44-43A8-A482-A4EBDD04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587F8F-26C5-4E05-A416-7E6D55D2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FC70D8-EE63-4AA1-BFC8-365DBA20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6DC9A-4D8E-4DA5-AE24-361134C2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880B69-E694-4C59-B594-BE3E6C48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DED2E-BFA8-4B48-AFE3-997105E3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227790-6D26-40A4-B1A2-D0DACDED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056B-06CD-486E-B9B1-9561E2DE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221F72-9542-4AB4-AFA3-E45AA369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675A9-38B0-48D5-A59F-F15D141A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4C1B86-38ED-4374-A2CB-3CD6AB92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82859-2DAB-4783-986B-1E7E0C24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237E8-30CD-453D-B207-BBA521E9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8D6A4-8973-4F5D-8C0C-F2630D87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B5ED0C-52C8-4A3C-98B0-DA041981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67BAE-58D6-497C-9203-FD543328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06662-7C8C-46E7-819D-76885246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4AD9E-5D67-4B10-9998-8EF6A905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5D04-FE63-4F5C-8219-D3F0E2B7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DC834-9900-47B7-A19D-598705A9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936889-6A04-4F4D-A3D2-030FBC298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6E363E-FC7D-4E01-9E6D-3F0873B1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E0668-2433-4E6C-B655-7EADD75F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CE3BD-B21F-4F8A-A7F5-BF8041BD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66C35-D8E9-4BF9-81A1-DF3AB397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2DEE7-0CEE-42CA-98D3-F312B7E78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682AA0-8CB1-4E5C-862A-74C348FF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AADDE-3C34-4F3D-B1CD-09431D32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520087-33C4-47BB-983F-FECF22AB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AFD0-8BE3-428E-B443-ED8C78159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46D98-30CC-4459-ABCB-839AC9FB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3DCD4-3434-4F92-89AC-989001999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FF8E6-36DD-46CE-A059-1ADC19FFE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E8633D-75F6-431C-A512-FC42925B2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DC044C-AA46-4EE7-A457-AF286B14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73F56-B689-49C2-9C26-03CE1BB5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A3B8E-6A69-4A71-A0BD-3EE3BA27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979C0-DFAE-46D5-B159-8F33AACF1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326B5A-82C0-4EAF-8CAD-1F8994C2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8CB64-9A00-4A02-A127-3B9FA6AB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3E40-DDB0-4122-A0F2-52369418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0BE0F-E62C-4332-A1B8-3CA0C685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8AE82-0D6A-470C-AAEC-B7D7161E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8750B0-BFE0-4182-986A-571F2D49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36DA3-AA6A-4216-B8E8-9DA18E921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D4ECEB-713E-4556-B558-8536AC9F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E1A77-88D6-467C-A0F7-235210E4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69DC12-0A44-4D86-A044-50B2F73B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14DDF1-9F90-4240-8891-EE579880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9928E7-F609-43AA-BE58-6E53F34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BB568-CCEB-42E2-8575-783F009F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1D10E-BCE7-454C-B9B4-E4A518BF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A97AAA-880A-4E56-BA47-D71FC17D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9EDF0-1637-47E5-A470-E02A18BD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34A60-6123-4881-9EC8-EFBA92C7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AD7393-A7AB-4E13-B451-607C5C3B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95CE97-D95D-4B9A-84B5-1C0CE4E4B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62173-F511-4020-9AF2-B07411FB9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1E6BD5-DE08-4E17-98F6-EC9461479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2CF120-353C-4207-B5A6-FC050BC2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40BB1-8AA3-4B59-9BE3-C3E36CA8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4C9B7-DF9B-41C2-BCC9-5F9683D5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B111-4EF5-45D7-88F7-4F6A4B6C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CA9D4E-2A5A-4EF0-874F-94B554C1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61C22-D472-4FDE-AFAC-D6BD68F8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AEBF99-C38B-4177-9DC4-FBD5F94E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AE840A-95D0-44B9-BD8D-384051A4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E212E0-B1F7-4D06-9733-F94A6445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A58696-FD98-41EE-93E0-2D4EECC3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80CC1-0A42-451F-B1D7-40ADDADB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CC2492-338E-4BEB-B1D4-EE2A39A2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A9597-8482-429F-9B21-71A3BB3B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DBF3E0-CF9F-4ACC-B2CE-D3D0B1D2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4E2D7-4494-4A8C-B315-4DDC4C4D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5205A-42BE-4DE3-A9DA-19D88CEFC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1A7030-9245-4BCC-95B6-A0949EC4F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5100E8-A8B9-4FA5-A1D7-411E1624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EEA1C-8538-4A8D-9C1A-8E3FCEEF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9BFDE-2586-4582-80F6-34692ED4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2879B5-94B7-447E-8B3E-32E0C3A4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85E9E-7A23-48FF-A019-1A5E46D0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42C44-98B9-40B3-B7F7-1A9CB45B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CFA281-FD0B-49D5-A2E4-DA49EEE7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6A533F-75D8-46F0-8B44-F283DC43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4FA6-BBE2-4F6E-9E0B-BBCF89BB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F3043A-528E-4208-87F8-C6240ED7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3B9278-5DAD-42C2-B614-971F95E2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C9B24C-C803-4CBC-B826-052D9A41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5C7FDC-F94D-406B-9E34-36FD490A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A00574-B660-4959-B82A-675DA30D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292D28-3D42-4680-A478-70FFD9F8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0F9BE5-5D2C-441B-B3E1-92BE84D6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6D8C7-D23D-435D-96FF-BA7EDDE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7D2B5D-EC9F-4065-B184-F2C31720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F6C3C1-B317-4E02-A637-F76B0CC7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D882-86A0-4507-B98C-35228642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621A32-1640-4A10-BA29-DF90CC883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714F1-0974-4899-91C5-C2B8584BB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F91F82-52BD-494B-8B1D-DB70863D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06A889-F7D7-4C86-9779-E3030E821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3DCC39-A2BA-420E-A344-B9D0A591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44230B-AAD7-4119-842F-3ACE7D6A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487DA-272E-4394-B690-9206F863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1F24C3-FB5C-472D-B01A-1483EE4B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6E30D4-4EDF-471F-95ED-7044CD32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564E91-9171-48EC-ABDA-69128689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1B8E-ABE8-45E4-8F3F-20BE8A09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0FBD-228F-43D7-A1B2-1D50EBC5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344276-6D43-4ED6-955D-A7724A21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8E13DA-4DC6-4616-BAB1-EBCB4B0E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081DC-9E72-46CD-8A57-E91F1B5D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179E9F-5ABB-4CCE-BBC3-142B9E32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A8E63-01AE-4E4A-BC2B-57C29EDE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7569BD-C31D-45A8-A711-8506DA596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AEFCCF-71F8-48B7-AE4D-7EFF56BF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32DBE0-271C-480D-B756-38916A30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F899CB-8633-4FE0-AFD3-02D04DBC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F2C427-600A-4F72-8341-3505D36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7A9A-B437-448D-A250-01883B84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8A14D1-6FC3-465A-87C1-44CED703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A45C97-4A5E-4061-B315-4ED7799AB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951FA8-0025-4781-A7B9-6858EFBB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71E482-4625-4551-8384-60F413A4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FEF8DB-9C66-4BD2-BB5A-D6EF544B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C202D4-6DB6-4305-914D-7CB4E62F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E12E0A-639B-4B5F-B916-518FDCB1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45B25-67EC-42C9-89AE-1B5295F21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909A43-D373-4CC0-8908-1842457E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D1E176-6871-4BEB-A612-EF34DBC0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AD5C-558B-4E88-A956-DAF155E7C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BE71A-7574-43BE-874F-BC30DD73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4EA46F-A9C9-4A5A-9E6D-65B888CF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3107AA-9745-462A-B511-3807FF63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AD895-675C-4165-8CA9-CC2C17CC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433754-9E88-4673-A075-CBA3FBA8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43B73F-6B85-45E4-B944-088D5637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4F7AB1-26B2-4733-9518-16CE36E7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4AF554-813A-4298-BD0A-D075218B5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C1B628-BEED-43FE-961C-3133F5681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62FC86-AD2B-4D29-9FE7-75F1D615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F0B5-6DF7-44B8-AD68-82AD58B40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15C9C9-54E3-4BFC-B8E5-5FFB792B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D223AA-9A53-484F-AD1E-6362F17A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459476-D088-45DE-9F55-495159311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1ED1CF-7BE1-4718-B9D9-6FD185DC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8631C-CB43-4F52-AD38-9F2C85B5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652443-322F-4C84-A46B-B71A997E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7290CD-A71C-4DD3-A9E9-D41006C6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4A2C30-2F7A-4547-A717-A42EA3A7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4DC63A-0B82-4505-9960-35B30F2A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5922E2-F11C-4E9A-B396-C84B1FC0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D7617-C8F9-4C8D-9E3E-8BD453AD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7216CC-718A-4763-B5D1-61659872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B1C414-EF93-44F2-A509-3965DA7E2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C7FC80-D4D1-487E-BBC8-2D5F867D7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8FD5BB-851A-4392-8F64-37916EEF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5D7A76-4712-420D-86FA-472EFF7A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787CEC-9237-41F6-824D-4181B60B9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1ADA03-FA1D-4312-BE1E-918336B2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EEE60C-9806-4A61-948C-E257EDBC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FFF0A7-4CE6-4B8A-B68F-050888E0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DD98B-CED2-4E93-BE5B-2D5BC8E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068C1-046D-4599-913C-6DA043A8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10F514-9353-4F14-8123-34F2EFC0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A062D0-B987-495C-9005-961FD03C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DE2D65-C796-4AF0-83F6-C154C6AB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F6148B-0C5C-4258-A7BB-F3B084D1F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8BE402-C13B-4584-9051-B959B30A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7B999C-27BA-404F-AFA7-256A821D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A4569A-E5AE-4EE6-9E40-F625394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AC72A3-86D8-492E-97E3-08254683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2608DC-EA34-4660-9A48-DEED57A5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0C403D-C0F8-4EC8-8681-4BA9AC68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B2802-6187-4FF1-A408-A8D489CC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5C8B2E8-A4CD-40FE-9D04-5D924C8E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42C305-38A4-4ED2-9512-F648A455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DBCE21-E4BE-45E5-861A-F5DA46C0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9C42B9E-0684-4533-AE56-E8861E93D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9B9229-C630-4817-B25C-FEB540B4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94D34-12A1-4CFB-80A2-66E206B1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A664D-A5C3-40CE-B38D-A74A2F41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FD0AB-B32A-4B5F-8F3F-27240F9A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1345-C076-47CD-AB96-21C9F756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216F-1BC3-450C-ADF2-5288781D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ABD0-5CB7-41DA-A988-404D12CF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53259-4C50-4FE6-9727-86F38FFD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9D7D-3EB5-4A85-AB52-D4D5591B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B0AC0-E243-45E9-A40B-38691F99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DE740-216F-4485-ACF1-3FCE7E94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4C241-6F57-46AC-815D-D55AC573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3877-E34D-4469-B503-9A509B57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21B6A-FE3D-4FA2-8E29-436435CE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2D7A9-9641-4A9C-8B5C-E1FB1AE7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D8A6-4EE0-49D1-B84A-25D6D2A5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7A66C-F950-4456-99CD-FB2848E3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36A60-ABCC-4EA2-A2BD-BEB692216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C597A-156A-470A-AEE2-000F8B431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4AB9F-6A42-4C82-BAFE-96F71B4B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8B67E-0D9B-43E9-857C-8E30DF97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6C0B13-1F64-441F-9DFA-B098CD3A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F641D-8BF8-456B-9C9F-221104E2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462A1-282C-4345-BE3A-64A0655A8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81AE3-B39F-4F1C-AED9-AA9F54469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B2E84-8DF1-4AFD-8408-0AEEABEBE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E3C-3C52-45BC-8DDD-2505AC55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24111-99D3-47AE-AE5F-2D9FAE12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D22D9E-CFD8-4BC6-8534-D809FBF6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3093-A144-4E04-AE30-742BE398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F069F-6A72-4F82-B634-A829F627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854A1-7176-4324-8E7B-A3E7E6CF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76BC0-04C9-43D5-81CF-9C4D643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821DB-2949-4AFE-A0F5-51E3F160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718CE-AF96-491D-B47A-4BC179DC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4ED26-A200-4265-B8EA-D5BA31AD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365BF-5588-4553-A807-842A27C9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2B9-74EB-4938-9193-13164C53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7556A-5B84-4DDC-940A-212BA2AF4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A254D-5E10-4579-9D4A-B6A268DF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4D5029-A779-47F1-A582-AB524029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AE6F6-A104-410A-8161-70110212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6966E-0F84-4252-8156-8E207EDF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8F309-F9CE-4916-9622-11A602D2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5C9EF-F34B-4684-97C6-F3075264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4F9D1-64B9-47ED-B0FB-CB8CEA0D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05804B-5B64-4F83-8AF7-1AD152BE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0D0FC-C770-4149-8DA3-870C0676C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193E-BC65-4802-BE10-067F503A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56C41-1593-4E23-AC67-83067BFC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89C35-E82D-4585-889C-214FC85D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B2195-CFE1-4C16-8628-E718E1F8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075AD1-0733-4319-91EE-84A5DBB7E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1A9C0-77D7-4BBF-A478-3EFE4BE0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91879-E062-47D7-BB97-C4D0041A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41D36-55CA-4243-A559-B82DCA0FE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46526-35DA-4813-8A5E-4E9B6292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822D5-C727-4E7F-9B52-58613BFD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BB39B-A65C-4C25-809F-CB3BE6AB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04F-C4D1-43EE-81E8-CD7DCD61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B3326-697C-4D87-83D4-F324628C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F12C3-213C-450E-BB2A-D65DF0DC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605CA-7E89-4157-B532-DF849A98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E9350-2E2E-4AF0-A214-17EB0F1D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85ACE-E536-48B7-8718-32D3827D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D9B25-159B-45CE-BE8B-77E9FB0BA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68251-0BD0-4112-9B61-30100B04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2B18D-AF02-46DA-B47E-9842F91A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DBFCB-6118-4F94-BD67-D03766F5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2332C-4E24-4FD1-83B0-A50D7878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20E-B688-4D9E-9296-48C1E82E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6B5592-22B7-4CDE-8A9E-EBE49343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61E4A-B2FC-45AF-9EF8-C2412E45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DBC59-774D-4D9F-AE57-7C988FA5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CA3E0-863C-4356-842E-52A590FF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0D17F-FADE-483C-9973-1261040A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6E699-A9C2-4825-BE04-DFD8F494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A6B6A8-89D3-431A-B0BC-84B161CD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38539-97B7-421F-93C9-A5504DA7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1636B-C9FC-4C86-837E-C68C9A03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B8830-E86E-4996-B188-51D63C88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7884-0798-422E-8BBF-4742AA402A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89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28EC-07E9-49F1-9998-A5016B8077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5C8D7-2761-4AFC-84F1-57E338FDC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3AF3-5357-475E-8548-20839E48A9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2E15A-A689-4204-BC76-6FA5B4CF59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E86A-E2CC-467B-948E-48C823AB14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E940-DD58-473A-8088-6C1E169463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DF2E-5A6A-41F4-B264-BC878148F3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EE86-8F99-466D-AAAA-CAFCC029DC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BF80-760E-4EE3-B68D-E21C37F7FE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BA89-A5C5-4BC2-9768-5FCDB7AFA9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07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2BE7-7EA7-418F-AD5F-E8F6E0CD80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EF70-A6F0-4348-94EF-A04B8E67BF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1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7867-4E5E-4D1F-8278-EEE1913FD8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1247-BEAC-4A00-A0CF-7680CC4B51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484C-7B98-4D21-A1D4-7D0C5E1A7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D980-115B-4CA8-90C4-1B854677C1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5BF0-76BA-4FC0-A036-3979F8488E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5640-17E4-4869-B690-F4D427886A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8773A-8E6B-42D0-86B0-04E200ED38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66AB-3617-4E7E-AF2F-FE72463D50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59A6-8C3F-479E-9A5A-5BB891635E4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509D-FB53-4770-BB0C-9EF0CDC4D0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7BDC-558D-43EA-AD08-64169D50FA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0749-7F10-4BDA-ADE0-2BB8C3FF24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3E05-A1C6-4ADD-96A6-BD974A77DD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9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20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A51D-29EC-4D8D-B270-253BB8BAA3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C94E-6CA7-46D0-83D1-6CBF6212EF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04D2-3C1B-4B31-9E0E-049A94D7CA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1E23-BF41-4C18-A6A5-27E77F5807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1EAE-D8B8-46D4-B7FA-EAFDDEF5FE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69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4D8C-C20D-4465-A652-3B86395EF9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3CBC-F4D0-4AD5-9460-1345049D6B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94CFC-3238-490A-9353-059470449B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0896-D6A1-4217-A928-A5F4FD9FA1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03D1-03DF-4B16-8565-348ABF2547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368A-E177-4702-80B1-C974A1E1EB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1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3135-4723-436B-9AD2-172E8877F9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CF2A-0C7C-4350-B93E-BDF60B6751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B070-90F4-4AF9-B0AF-04EF0A17E3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43C6-4E42-482A-AE9C-9908C4DF22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121" descr=""/>
          <p:cNvPicPr/>
          <p:nvPr/>
        </p:nvPicPr>
        <p:blipFill>
          <a:blip r:embed="rId1"/>
          <a:stretch/>
        </p:blipFill>
        <p:spPr>
          <a:xfrm>
            <a:off x="2019240" y="3133800"/>
            <a:ext cx="51055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145" descr=""/>
          <p:cNvPicPr/>
          <p:nvPr/>
        </p:nvPicPr>
        <p:blipFill>
          <a:blip r:embed="rId1"/>
          <a:stretch/>
        </p:blipFill>
        <p:spPr>
          <a:xfrm>
            <a:off x="138240" y="1157400"/>
            <a:ext cx="8867520" cy="454320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1590840" y="366408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3635280" y="3659040"/>
            <a:ext cx="289080" cy="2574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1576440" y="4176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3635280" y="4149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5435640" y="364500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6084720" y="364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7510320" y="364500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8158320" y="3659040"/>
            <a:ext cx="288720" cy="2574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5810400" y="4149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6848640" y="4149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7494480" y="4149720"/>
            <a:ext cx="289080" cy="2570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3"/>
          <a:stretch/>
        </p:blipFill>
        <p:spPr>
          <a:xfrm>
            <a:off x="8158320" y="4149720"/>
            <a:ext cx="288720" cy="2570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4"/>
          <a:stretch/>
        </p:blipFill>
        <p:spPr>
          <a:xfrm>
            <a:off x="1403280" y="49928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5"/>
          <a:stretch/>
        </p:blipFill>
        <p:spPr>
          <a:xfrm>
            <a:off x="3521160" y="501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16"/>
          <a:stretch/>
        </p:blipFill>
        <p:spPr>
          <a:xfrm>
            <a:off x="5665680" y="50133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17"/>
          <a:stretch/>
        </p:blipFill>
        <p:spPr>
          <a:xfrm>
            <a:off x="7812000" y="49849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18"/>
          <a:stretch/>
        </p:blipFill>
        <p:spPr>
          <a:xfrm>
            <a:off x="1389240" y="5381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9"/>
          <a:stretch/>
        </p:blipFill>
        <p:spPr>
          <a:xfrm>
            <a:off x="3506760" y="54021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20"/>
          <a:stretch/>
        </p:blipFill>
        <p:spPr>
          <a:xfrm>
            <a:off x="5651640" y="54021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21"/>
          <a:stretch/>
        </p:blipFill>
        <p:spPr>
          <a:xfrm>
            <a:off x="7797960" y="537372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4" name="图片 7170" descr=""/>
          <p:cNvPicPr/>
          <p:nvPr/>
        </p:nvPicPr>
        <p:blipFill>
          <a:blip r:embed="rId1"/>
          <a:stretch/>
        </p:blipFill>
        <p:spPr>
          <a:xfrm>
            <a:off x="14400" y="1305000"/>
            <a:ext cx="9115200" cy="4248000"/>
          </a:xfrm>
          <a:prstGeom prst="rect">
            <a:avLst/>
          </a:prstGeom>
          <a:ln w="0">
            <a:noFill/>
          </a:ln>
        </p:spPr>
      </p:pic>
      <p:sp>
        <p:nvSpPr>
          <p:cNvPr id="985" name="直接连接符 7171"/>
          <p:cNvSpPr/>
          <p:nvPr/>
        </p:nvSpPr>
        <p:spPr>
          <a:xfrm>
            <a:off x="1258920" y="2060640"/>
            <a:ext cx="1297080" cy="1008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直接连接符 7172"/>
          <p:cNvSpPr/>
          <p:nvPr/>
        </p:nvSpPr>
        <p:spPr>
          <a:xfrm>
            <a:off x="1258920" y="2637000"/>
            <a:ext cx="1297080" cy="1008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直接连接符 7173"/>
          <p:cNvSpPr/>
          <p:nvPr/>
        </p:nvSpPr>
        <p:spPr>
          <a:xfrm flipV="1">
            <a:off x="1258920" y="2060280"/>
            <a:ext cx="1297080" cy="1081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直接连接符 7174"/>
          <p:cNvSpPr/>
          <p:nvPr/>
        </p:nvSpPr>
        <p:spPr>
          <a:xfrm flipV="1">
            <a:off x="1258920" y="2565000"/>
            <a:ext cx="1297080" cy="10810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直接连接符 7175"/>
          <p:cNvSpPr/>
          <p:nvPr/>
        </p:nvSpPr>
        <p:spPr>
          <a:xfrm>
            <a:off x="6789600" y="2033640"/>
            <a:ext cx="1311480" cy="107928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直接连接符 7176"/>
          <p:cNvSpPr/>
          <p:nvPr/>
        </p:nvSpPr>
        <p:spPr>
          <a:xfrm>
            <a:off x="6775560" y="2565360"/>
            <a:ext cx="1311120" cy="10796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直接连接符 7177"/>
          <p:cNvSpPr/>
          <p:nvPr/>
        </p:nvSpPr>
        <p:spPr>
          <a:xfrm flipV="1">
            <a:off x="6804000" y="2060640"/>
            <a:ext cx="1297080" cy="1008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直接连接符 7178"/>
          <p:cNvSpPr/>
          <p:nvPr/>
        </p:nvSpPr>
        <p:spPr>
          <a:xfrm flipV="1">
            <a:off x="6789600" y="2637000"/>
            <a:ext cx="1297080" cy="1008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椭圆 7179"/>
          <p:cNvSpPr/>
          <p:nvPr/>
        </p:nvSpPr>
        <p:spPr>
          <a:xfrm>
            <a:off x="1403280" y="5041800"/>
            <a:ext cx="503280" cy="3016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椭圆 7180"/>
          <p:cNvSpPr/>
          <p:nvPr/>
        </p:nvSpPr>
        <p:spPr>
          <a:xfrm>
            <a:off x="2627280" y="5027760"/>
            <a:ext cx="503280" cy="30132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椭圆 7181"/>
          <p:cNvSpPr/>
          <p:nvPr/>
        </p:nvSpPr>
        <p:spPr>
          <a:xfrm>
            <a:off x="3262320" y="5013360"/>
            <a:ext cx="503280" cy="3016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椭圆 7182"/>
          <p:cNvSpPr/>
          <p:nvPr/>
        </p:nvSpPr>
        <p:spPr>
          <a:xfrm>
            <a:off x="6732720" y="5013360"/>
            <a:ext cx="503280" cy="30168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椭圆 7183"/>
          <p:cNvSpPr/>
          <p:nvPr/>
        </p:nvSpPr>
        <p:spPr>
          <a:xfrm>
            <a:off x="7351560" y="5027760"/>
            <a:ext cx="503280" cy="30132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椭圆 7184"/>
          <p:cNvSpPr/>
          <p:nvPr/>
        </p:nvSpPr>
        <p:spPr>
          <a:xfrm>
            <a:off x="8516880" y="5027760"/>
            <a:ext cx="503280" cy="301320"/>
          </a:xfrm>
          <a:prstGeom prst="ellipse">
            <a:avLst/>
          </a:prstGeom>
          <a:noFill/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9" name="图片 8193" descr=""/>
          <p:cNvPicPr/>
          <p:nvPr/>
        </p:nvPicPr>
        <p:blipFill>
          <a:blip r:embed="rId1"/>
          <a:stretch/>
        </p:blipFill>
        <p:spPr>
          <a:xfrm>
            <a:off x="800280" y="1752480"/>
            <a:ext cx="7543800" cy="3353040"/>
          </a:xfrm>
          <a:prstGeom prst="rect">
            <a:avLst/>
          </a:prstGeom>
          <a:ln w="0">
            <a:noFill/>
          </a:ln>
        </p:spPr>
      </p:pic>
      <p:pic>
        <p:nvPicPr>
          <p:cNvPr id="1000" name="图片 8194" descr=""/>
          <p:cNvPicPr/>
          <p:nvPr/>
        </p:nvPicPr>
        <p:blipFill>
          <a:blip r:embed="rId2"/>
          <a:stretch/>
        </p:blipFill>
        <p:spPr>
          <a:xfrm>
            <a:off x="2209680" y="4537080"/>
            <a:ext cx="1171800" cy="447840"/>
          </a:xfrm>
          <a:prstGeom prst="rect">
            <a:avLst/>
          </a:prstGeom>
          <a:ln w="0">
            <a:noFill/>
          </a:ln>
        </p:spPr>
      </p:pic>
      <p:pic>
        <p:nvPicPr>
          <p:cNvPr id="1001" name="图片 8195" descr=""/>
          <p:cNvPicPr/>
          <p:nvPr/>
        </p:nvPicPr>
        <p:blipFill>
          <a:blip r:embed="rId3"/>
          <a:stretch/>
        </p:blipFill>
        <p:spPr>
          <a:xfrm>
            <a:off x="6458040" y="4537080"/>
            <a:ext cx="1171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0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3:07:03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