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C66B-F904-4AF7-B04D-B13E224EC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AB0C-08AC-499D-A999-0C9965AC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EBA4A-31A0-421F-A248-563BC7D8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94ED7-E5F7-4C73-A567-98AAF408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5BE0A-2571-4E55-A11F-95C0EF7A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C6BCF-CC05-46F0-9B60-94009491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AE535-2671-49FA-A674-CFF7B1E2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8BB16-9C0D-41FA-88E6-81E18C4B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023F8-8110-44A9-9877-5B04B4D5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86A25-A5C8-4360-BC43-A73A1643E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F5A58-4B6F-4176-816D-0DE930A2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9D67F-46A3-4475-96D6-6134A1066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A105-AEBB-4437-B2DC-8D3395734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8F4E1-78F6-4D13-92F8-522EBDF1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414D5-ABEE-43DF-A598-2088EB96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89C9E-D9E6-44FD-92A6-E088838C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0DD50-6D63-4529-A51D-5FDE79E2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66EC6-0A5E-4167-8392-6A16D3C5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C9472-FEDD-435E-BFD3-3F4B5254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3BE8C4-6B6A-402B-A2FC-3CEA8AC4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BDFE7-FBB7-4447-A67F-A8FFB2D5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3F38D-A3BE-46FF-968D-B886C82A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E74F8-C563-47A8-A0D7-5299DB1FA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DAEE-0DBB-4562-B95F-232215DBF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5C72F7-79D3-4DF7-813F-EDB7CB8A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6369A-F28E-4722-874B-2288373C6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C6F05-C103-47DD-B8B2-6EFE6832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1EFB4-1311-40D9-8B9E-61ACC363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F4D02-613D-4779-918A-E5F3C03B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91E3F-5E66-4F54-8E22-FA500770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B99D0-EC04-4167-89D0-8AB2897A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7F647-A241-4C97-8DC9-AAF52C37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27F03-E8CC-4BAB-AA67-BDC4865E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1D45D-8B63-4D8D-86C8-2FE741A7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513B-2EC8-4FD0-BDAF-97577B181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7B98F-30C4-400C-B39F-B0A9FA40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E9F48-9187-43A8-A600-89F7ECA09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CC2BB-F4B3-4570-A73C-954EA34AD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3241F-7642-414F-BE3F-A89EF1E2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EA393-BEF3-47E2-8F74-1ACF9C10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11A06C-6D08-473C-B62F-5804FFED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7D6EA5-6244-4195-9118-5931EFAF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BA8CB-DBE2-4593-A6E2-FC60EBE5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FE8DAB-34D5-4946-A329-295B5356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FD7A3A-4BE5-4C39-8206-9094CD11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2A25-E3E0-4925-A550-4991FB66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50B428-1AEE-475F-A9EE-DD0F0FA6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CDA8C-2D78-4AB5-9896-7B1876B0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96DF26-9389-4387-8E28-0FF249EE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01830-60A8-48A3-B1C3-F1B2E40F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868241-B415-4482-95BC-AE2FA7A9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BEE69C-4565-46BB-B488-5DE932259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10E08B-9C1A-44F8-B1B4-22E1A326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358293-0BE5-44DA-9B33-0699AC09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32E5A8-70AD-4FA9-AC26-3DFB955E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56D907-4C19-4E59-8E07-F0FF2B3F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71D8-3DB1-4F74-A234-4DEC6E68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B1AE66-5391-4579-814D-34DCAA6A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DD211E-C5C1-4A66-A542-78A15FD7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80A330-3AFA-4CF9-A5FA-E7A7E512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C52C7A-1193-44C0-A843-86525FF3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94CFC8-75FC-4570-9EC1-07623C0C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C511D8-C272-46C2-9C79-7C5C5207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DCAD09-1E8A-42AD-A516-3C003F5D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72001B-98F1-45DE-A5A6-442BBBA4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3EEC3D-FC3B-4C72-9980-C5D7905B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F4F574-B6C6-421F-99F9-A55F1BDD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A47B-7953-4BAB-8E1E-04242D82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41C6C1-3D7B-47D1-A028-05A0BDFE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506942-DA59-4B88-AEFE-DB8D105A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D6EA85-5AD2-45C3-BF95-176678F5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996BE3-6AD2-403E-A89A-0CC73387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A5074C-C2A7-44DB-987E-3209F375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83C750-65DA-407B-91BB-5D79A12F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190905-4016-43DA-BBCF-0D5D9A85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A6C90E-A019-4799-A961-421B53C6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AFF179-766D-434A-9A77-AA6405817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124034-A72B-46BE-B1AA-D35217F1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032B-87AB-4BB3-9350-D721720A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10C74B-B4EA-4D3D-891E-EC071EBD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061CF8-A9A8-4BA2-9456-FE932D29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700039-7AFC-4A67-8135-7D646252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45312E-8776-4EE8-8B67-6A251C86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8C06F7-CC1C-441B-8A93-006851D8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735A39-F950-437C-949A-F242E605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40494E-E39A-4958-814C-8ECC7C1E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E72721-FF60-4C36-B2E5-30FC2546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FC80F1-3277-4526-91C0-04EF0A1A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33095D-E5F0-4489-BB27-9F626EEE3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2927-E5EF-4681-BCF4-001057F1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49E279-3C17-442E-8337-105964E2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4DAA35-090C-4B7A-A903-B340991BD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DA6947-6C2A-4D11-93D0-8DCFBDC5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0A91B0-C03E-446A-BF7E-E9A66B80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A4CD90-3E93-4AA5-88B9-78E854A1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14A211-D00F-4A30-9BAA-0952430D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5B7E64-7062-45E0-A712-CAF4892D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435CD5-59AF-4730-B433-0F10983C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040898-B1AC-4CB2-A6EC-C721D894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22C3AB-BBEF-4C18-A155-ED849C14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C976-E4EB-4ACD-95CF-6A8254AB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0CAEE8-244C-481E-A3B4-C94BD750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5C5CBF-6D22-4064-B736-C9727F51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FD44A5-0621-4AC3-89F2-244BF989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911059-E218-45AD-BEE6-8B637637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3868CA-BBD7-4074-8B4C-F6D33BED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85FA00-0D7D-4F65-824D-4F0EA119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BF99D0-0B54-471D-9D55-2DCA1B67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2DBB19-5AB3-4B7A-8F08-30B06E27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548261-2EB0-4F81-8042-52F14049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F7F1D3-4C3B-4B5A-9D43-F37E8F5A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830F-9582-4288-8F9D-9261742B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85EB-AA53-4077-8E2C-F8F5137A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8410E8-E6E5-4081-8F4F-3B24BAD4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66BB59-61B3-417B-85EF-809B5CBB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DCBD64-1852-454E-B9C5-FB9CE438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51DC34-F685-4EC9-8177-898F6B99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CB7A3F-8671-4A52-A28B-1F265F688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3E3D70-E030-4088-9DE7-C1D75386B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AC3A6E-C3BD-41AC-A4BF-AC0F8514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419591-DBDE-4C8D-9BD3-BE64D7C7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BD1AB2-BA14-4F2C-B54F-8D413F08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84CF18-1936-4F58-A893-1E33DCA0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0D75-47E7-4778-8B09-2B6B1F12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CFB975-16C7-4926-A610-DFFE430C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85845C-B39C-419F-B2FD-07AC3C17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8067BE-1833-4BAD-9EA8-2B03BD31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A2E4C6-2B1C-4163-A40B-E87836D9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DE7C04-C6DF-45D7-BC41-76B7CA1B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E29319-B22D-4BFC-8431-B277DAED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E30E98-746A-4009-8716-2B61B903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741F23-71A2-41E2-B682-513C485C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E1C7DE-90FC-4720-8D0B-1E799B31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32D700-A138-48FD-91BE-CFD560BC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4E00-2F0D-4455-BE4E-EB71012C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E24509-EDEB-49FE-8B9A-66CEC335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6E9733-15CF-4C5E-8723-103A9B32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E0D1A5-32A2-46C3-BFC0-829D49A4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062629-F217-47FA-9E13-A3282A08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769C93-432D-4E32-ADA2-35BAB2A0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FF7D7D-2655-432B-B334-33CCC081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709313-71C7-40C3-ADDF-A1AA02B7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7206C5-E916-4506-B249-5F798A0A2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D9D152-F16A-47B0-B6F2-143E24E91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E67A65-C027-4967-9308-BED0089E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236F-9337-4BF5-B510-0553666B4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20DB25-7AE1-4B71-AACB-3E59D637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FE47DE-F213-4178-9128-3616EBD5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461364-EC4C-4865-826C-B3D90BDB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F39ABA-56ED-4962-8215-C9D67CF7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C021B8-8E96-4F6B-93F9-9E8E41BC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9A905B-B5CF-4057-9446-AE6E4740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E8B17E-D3A6-411D-B870-DEE4DC12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AA3B5A-ED37-4F5D-A2C4-7EABC398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90E0BB-62DF-4E25-909D-123618B5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C42A35-2386-4C66-B506-3C28D81A1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B6B6-EA0F-438E-96CC-71EF44165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F443D0-714A-4ADF-8959-463FEC5E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78845D-62DB-4D88-8314-C266C9650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8453D4-F054-4430-B6C7-B5D8CEE5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34A361-B119-4545-B840-56E99175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B41E58-E36B-4847-B19F-F8738B7F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F3826F-F1A7-4F44-B751-002E1497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71DEBC-1B33-4826-AF92-D4AE8607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8C034D-DE37-4729-A7E8-9F322B9C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EE1F0B-DE12-47F8-A1DB-781B2A97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041303-1C47-4958-B9B6-451696F6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21589-9CFE-4C88-951D-4C5E5F79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DD1C9E-30BB-4639-AF03-C94558E8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34A8F0-5D90-4AEE-9793-24A28F29B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DE61B5-921D-4BC8-BBF7-DABC40A62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72BBD-1D5F-4C30-BFCE-D5D05B7B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F5B88-EBD1-4C0D-8BB7-5E6EE28F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CC850-CC40-46B7-B667-64C44FD0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F28A0-2723-4398-8967-7F203A0B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323F-D35A-45CD-8ABD-22C61EAF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29B64-C13D-4E38-B89E-D2886A4F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CA202-B87E-4B53-B598-46F23015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20E5B-2192-4BCC-B77A-2A48D396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058BC-4815-403D-8924-5E8E0926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E55F0-BA08-4920-9520-490169D5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C19DB-3514-4560-94CE-24CAEDA3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99A4F-0A26-4DF3-888D-185AB7E00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031A9-25A5-4C2F-A36F-C5FE7BF35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F82EF-893F-46B0-A4AB-E2942F6A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E1B43-027D-4B36-BE90-DD0B6D50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5C48-833D-4083-896E-871C4188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52B7D-A978-4601-9285-2D49FCED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78F75-23EF-4C4E-9465-3EA1DEBD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3EDA9-DA50-44A6-9C3C-4BDD33B4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72034-9522-4096-B11E-4B64DC8F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3D3B4-1A08-4B99-9AC9-D5D936DE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19580-DB35-4179-88E7-F684F6CA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B8BB6-3A3D-4DF0-AE04-66ED9FFB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E1DC6-BFBF-4D26-8794-92D1088E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024D1-F5DB-41D7-A7F3-455560FB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B45E5-89B4-44D4-B963-BDB9CF9B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5366-6484-44BD-BFDE-B50ED7BD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1BB91-1500-44C8-95C7-F4EAC58E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57FCD-7D4F-4453-868C-4BE00A48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68472-6D04-4615-A36A-BE43E63C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3D3B3-4CF1-4B89-A19D-85C33081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67AB4-EB0D-4A2A-B962-439DE7B3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19933-381F-4D67-B61D-A6215C63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568A0-50FE-4043-8D01-7DD46C82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1DF48-8A2F-43DE-8242-E61E31E2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562F4-758A-452A-802A-E78063E5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E19D4-18FB-4CD8-86D3-8FF5FCC65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6140-2843-497E-BD63-A0BCBC76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6712D-9507-4C08-86A9-F6B6CC510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F1B47-D6E9-4B61-BB36-68B59302B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872E3-E5B8-44AB-B7EB-FF7F0168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A935A-39BF-4DF0-8819-5A1675E2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FBBEC-7ECB-45EC-89E6-03921AD0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2C26B-C144-459A-9853-AEE7D52C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33AB5-7B1C-4EDD-A314-21DFDA9C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09751-C956-4F6A-9EBD-F2415C21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FEE0E-45B9-483A-9C0E-16922910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E5288-BAF3-444F-A6F0-D95E89FF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C0E0-CD4D-4C3A-A5AF-B0692935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7F454-891A-435C-9E7A-9F0D21F4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6DDA8-F160-4923-BA5E-06FAF536D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E650E-60BA-4306-A560-EFC84B131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7D9D7-5CDE-458A-B2D4-09E1C8F1B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2F381-99E4-4ABA-A64B-2F741C5B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21E89-83BE-4554-A20D-B8D0905E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D9383-9D8E-41A5-8724-C2A995A8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68881-3908-4A41-A415-665719E4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4BBB9-17A5-436C-AC2E-0CB1A0E0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08FFC-51B2-4447-B4E8-47D7779A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CFBC-7D34-4F3D-AD51-6EFBDAEE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86A22-93EB-4BC9-AFF6-4CF4C11A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AE771-C1F8-4E52-82F5-A1FF33EF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4F66B-5CA6-4C93-A059-3322A089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071B2-8891-4FB1-9497-87823F70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5C791-02DB-4F02-A706-97C2D25CA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45E43-DCD1-471D-9E35-35CCBF214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FEDCC-2ABB-453B-92A9-CE2D0D61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194AC-4C1A-460C-88B6-5829D937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DF95A-979B-4DCF-9605-2512DB80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F0D2C-5B1D-4FDD-B3AB-7FDD78F4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6EC7-A8E5-419E-A20E-5A1BDDFB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1E1C6-59BF-4FF4-BE81-47E9E84D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2E272-A2A4-4F26-8F2C-616C7DF7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DFBB4-637A-47A3-BEC2-F134B45E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368E2-1773-4F65-8249-29F9E42B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3F96D-3B1D-4449-9C03-8B1EE81B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178BF-EC71-4FB1-8D9B-00C6DABE8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76054-0CAA-45EC-8F0F-4D74E2DEE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5324F-273E-4C46-9305-80C3A2F5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D949E-2EFF-4E60-8A28-A5CC7969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B2808-3CF4-4067-9B97-E5CCB96C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CF35-36CF-433A-B1E5-2963CB7D1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7397-BE81-4CC6-82DB-9FA319DC21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D5C5-13B2-43DF-8D91-C75E508C35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8C60-423A-4267-8DDB-A66AD71582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425F-AF68-462C-AD73-9CE23205F3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3F3E-DAE6-4BA1-AEF5-F455D40A96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823F-8F86-4D6A-AF80-6496FCFEC0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D015-4240-4933-8538-FF5FA3E95B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E593-815A-4499-943F-CD571559D8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DDFF-7255-4E41-9B8A-FF53DDF63C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1488-7559-4D60-9307-43C09C5D49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8D2E-1DD7-4C53-A600-8F42F77ED9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465A-5440-4AC1-9639-74749FE314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05EF-0079-46BB-9786-C7E56BA28B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3155-D734-4A60-A8E2-A7EC921176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28F2-3B68-418D-95F7-C6777DDA55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0D9B-64B7-44DF-8A8C-E1AF225319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F430-6883-4281-9CA6-7CA1448212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B70F-68A8-400A-95EB-E6C878513B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A83A-D3A4-457A-BBFB-319F62A11D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8130-17CE-4D91-8C45-0E89894924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8B75-6DB3-4989-B153-18098E3B7F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3957-C651-47DB-A64B-F8AF987B9E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EE8D-E122-4AB2-931B-80C51CA96C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6030-E60F-4260-A53B-7C3A71EBE7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7697-9ED5-48A4-9D13-239D72BE21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FB32-8228-4EB9-93B2-BBCD87BC16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1A80-9170-4305-BB4A-5A3A66D42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931C-0654-4353-8F36-71A3F3D6F1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1EDB-9A22-416C-801E-74F997CABE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8B22-5A3E-4300-B880-8573E0C2F2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1F41-3428-43A3-A074-32671842C2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6CB1-170B-42AB-A90C-4C34166DB3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66D3-A407-4A17-8C28-E846D80601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8DB8-AD18-49DF-ACB7-CC16BFE549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5B0E-2840-4A09-8045-E1A5F509EC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8F0A-6377-4F7E-A350-9A8D74D265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83B9-E653-492E-B0B9-775B548A96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E444-64B0-4ED5-9FAB-75EB17C2C2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46EF-DD39-44EF-A154-1E84B0A000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04840" y="2247840"/>
            <a:ext cx="8734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5" name="Picture 1" descr=""/>
          <p:cNvPicPr/>
          <p:nvPr/>
        </p:nvPicPr>
        <p:blipFill>
          <a:blip r:embed="rId1"/>
          <a:srcRect l="0" t="0" r="0" b="8999"/>
          <a:stretch/>
        </p:blipFill>
        <p:spPr>
          <a:xfrm>
            <a:off x="209520" y="885960"/>
            <a:ext cx="8724960" cy="568620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4" descr=""/>
          <p:cNvPicPr/>
          <p:nvPr/>
        </p:nvPicPr>
        <p:blipFill>
          <a:blip r:embed="rId2"/>
          <a:stretch/>
        </p:blipFill>
        <p:spPr>
          <a:xfrm>
            <a:off x="468360" y="857160"/>
            <a:ext cx="279360" cy="25092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4" descr=""/>
          <p:cNvPicPr/>
          <p:nvPr/>
        </p:nvPicPr>
        <p:blipFill>
          <a:blip r:embed="rId3"/>
          <a:stretch/>
        </p:blipFill>
        <p:spPr>
          <a:xfrm>
            <a:off x="468360" y="1173240"/>
            <a:ext cx="279360" cy="25092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4" descr=""/>
          <p:cNvPicPr/>
          <p:nvPr/>
        </p:nvPicPr>
        <p:blipFill>
          <a:blip r:embed="rId4"/>
          <a:stretch/>
        </p:blipFill>
        <p:spPr>
          <a:xfrm>
            <a:off x="468360" y="1428840"/>
            <a:ext cx="279360" cy="25056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4" descr=""/>
          <p:cNvPicPr/>
          <p:nvPr/>
        </p:nvPicPr>
        <p:blipFill>
          <a:blip r:embed="rId5"/>
          <a:stretch/>
        </p:blipFill>
        <p:spPr>
          <a:xfrm>
            <a:off x="468360" y="1725480"/>
            <a:ext cx="279360" cy="25092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4" descr=""/>
          <p:cNvPicPr/>
          <p:nvPr/>
        </p:nvPicPr>
        <p:blipFill>
          <a:blip r:embed="rId6"/>
          <a:stretch/>
        </p:blipFill>
        <p:spPr>
          <a:xfrm>
            <a:off x="468360" y="6289560"/>
            <a:ext cx="279360" cy="2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1" name="Picture 1" descr=""/>
          <p:cNvPicPr/>
          <p:nvPr/>
        </p:nvPicPr>
        <p:blipFill>
          <a:blip r:embed="rId1"/>
          <a:stretch/>
        </p:blipFill>
        <p:spPr>
          <a:xfrm>
            <a:off x="223920" y="857160"/>
            <a:ext cx="8696160" cy="167652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2" descr=""/>
          <p:cNvPicPr/>
          <p:nvPr/>
        </p:nvPicPr>
        <p:blipFill>
          <a:blip r:embed="rId2"/>
          <a:stretch/>
        </p:blipFill>
        <p:spPr>
          <a:xfrm>
            <a:off x="214200" y="2540160"/>
            <a:ext cx="8715600" cy="315252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3" descr=""/>
          <p:cNvPicPr/>
          <p:nvPr/>
        </p:nvPicPr>
        <p:blipFill>
          <a:blip r:embed="rId3"/>
          <a:stretch/>
        </p:blipFill>
        <p:spPr>
          <a:xfrm>
            <a:off x="209520" y="5715000"/>
            <a:ext cx="8724960" cy="81900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4" descr=""/>
          <p:cNvPicPr/>
          <p:nvPr/>
        </p:nvPicPr>
        <p:blipFill>
          <a:blip r:embed="rId4"/>
          <a:stretch/>
        </p:blipFill>
        <p:spPr>
          <a:xfrm>
            <a:off x="235080" y="6541920"/>
            <a:ext cx="6877080" cy="28584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4" descr=""/>
          <p:cNvPicPr/>
          <p:nvPr/>
        </p:nvPicPr>
        <p:blipFill>
          <a:blip r:embed="rId5"/>
          <a:stretch/>
        </p:blipFill>
        <p:spPr>
          <a:xfrm>
            <a:off x="468360" y="846000"/>
            <a:ext cx="279360" cy="25272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4" descr=""/>
          <p:cNvPicPr/>
          <p:nvPr/>
        </p:nvPicPr>
        <p:blipFill>
          <a:blip r:embed="rId6"/>
          <a:stretch/>
        </p:blipFill>
        <p:spPr>
          <a:xfrm>
            <a:off x="468360" y="1409760"/>
            <a:ext cx="279360" cy="25092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4" descr=""/>
          <p:cNvPicPr/>
          <p:nvPr/>
        </p:nvPicPr>
        <p:blipFill>
          <a:blip r:embed="rId7"/>
          <a:stretch/>
        </p:blipFill>
        <p:spPr>
          <a:xfrm>
            <a:off x="468360" y="1695600"/>
            <a:ext cx="279360" cy="25056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4" descr=""/>
          <p:cNvPicPr/>
          <p:nvPr/>
        </p:nvPicPr>
        <p:blipFill>
          <a:blip r:embed="rId8"/>
          <a:stretch/>
        </p:blipFill>
        <p:spPr>
          <a:xfrm>
            <a:off x="468360" y="1968480"/>
            <a:ext cx="279360" cy="25092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4" descr=""/>
          <p:cNvPicPr/>
          <p:nvPr/>
        </p:nvPicPr>
        <p:blipFill>
          <a:blip r:embed="rId9"/>
          <a:stretch/>
        </p:blipFill>
        <p:spPr>
          <a:xfrm>
            <a:off x="468360" y="2265480"/>
            <a:ext cx="279360" cy="25056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4" descr=""/>
          <p:cNvPicPr/>
          <p:nvPr/>
        </p:nvPicPr>
        <p:blipFill>
          <a:blip r:embed="rId10"/>
          <a:stretch/>
        </p:blipFill>
        <p:spPr>
          <a:xfrm>
            <a:off x="468360" y="2560680"/>
            <a:ext cx="279360" cy="25236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4" descr=""/>
          <p:cNvPicPr/>
          <p:nvPr/>
        </p:nvPicPr>
        <p:blipFill>
          <a:blip r:embed="rId11"/>
          <a:stretch/>
        </p:blipFill>
        <p:spPr>
          <a:xfrm>
            <a:off x="468360" y="2857680"/>
            <a:ext cx="279360" cy="25056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4" descr=""/>
          <p:cNvPicPr/>
          <p:nvPr/>
        </p:nvPicPr>
        <p:blipFill>
          <a:blip r:embed="rId12"/>
          <a:stretch/>
        </p:blipFill>
        <p:spPr>
          <a:xfrm>
            <a:off x="468360" y="3106800"/>
            <a:ext cx="279360" cy="25092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4" descr=""/>
          <p:cNvPicPr/>
          <p:nvPr/>
        </p:nvPicPr>
        <p:blipFill>
          <a:blip r:embed="rId13"/>
          <a:stretch/>
        </p:blipFill>
        <p:spPr>
          <a:xfrm>
            <a:off x="468360" y="3408480"/>
            <a:ext cx="279360" cy="25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4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9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4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9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4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9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4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9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4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4" name="Picture 1" descr=""/>
          <p:cNvPicPr/>
          <p:nvPr/>
        </p:nvPicPr>
        <p:blipFill>
          <a:blip r:embed="rId1"/>
          <a:stretch/>
        </p:blipFill>
        <p:spPr>
          <a:xfrm>
            <a:off x="209520" y="785880"/>
            <a:ext cx="8724960" cy="598176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4" descr=""/>
          <p:cNvPicPr/>
          <p:nvPr/>
        </p:nvPicPr>
        <p:blipFill>
          <a:blip r:embed="rId2"/>
          <a:stretch/>
        </p:blipFill>
        <p:spPr>
          <a:xfrm>
            <a:off x="814320" y="4200480"/>
            <a:ext cx="277920" cy="25236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4" descr=""/>
          <p:cNvPicPr/>
          <p:nvPr/>
        </p:nvPicPr>
        <p:blipFill>
          <a:blip r:embed="rId3"/>
          <a:stretch/>
        </p:blipFill>
        <p:spPr>
          <a:xfrm>
            <a:off x="2363760" y="4210200"/>
            <a:ext cx="279360" cy="25056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4" descr=""/>
          <p:cNvPicPr/>
          <p:nvPr/>
        </p:nvPicPr>
        <p:blipFill>
          <a:blip r:embed="rId4"/>
          <a:stretch/>
        </p:blipFill>
        <p:spPr>
          <a:xfrm>
            <a:off x="3863880" y="4210200"/>
            <a:ext cx="279360" cy="25056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4" descr=""/>
          <p:cNvPicPr/>
          <p:nvPr/>
        </p:nvPicPr>
        <p:blipFill>
          <a:blip r:embed="rId5"/>
          <a:stretch/>
        </p:blipFill>
        <p:spPr>
          <a:xfrm>
            <a:off x="5435640" y="4214880"/>
            <a:ext cx="279360" cy="25092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4" descr=""/>
          <p:cNvPicPr/>
          <p:nvPr/>
        </p:nvPicPr>
        <p:blipFill>
          <a:blip r:embed="rId6"/>
          <a:stretch/>
        </p:blipFill>
        <p:spPr>
          <a:xfrm>
            <a:off x="6935760" y="4210200"/>
            <a:ext cx="279360" cy="25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1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6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1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Picture 1" descr=""/>
          <p:cNvPicPr/>
          <p:nvPr/>
        </p:nvPicPr>
        <p:blipFill>
          <a:blip r:embed="rId1"/>
          <a:stretch/>
        </p:blipFill>
        <p:spPr>
          <a:xfrm>
            <a:off x="214200" y="785880"/>
            <a:ext cx="8715600" cy="593388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4" descr=""/>
          <p:cNvPicPr/>
          <p:nvPr/>
        </p:nvPicPr>
        <p:blipFill>
          <a:blip r:embed="rId2"/>
          <a:stretch/>
        </p:blipFill>
        <p:spPr>
          <a:xfrm>
            <a:off x="468360" y="2500200"/>
            <a:ext cx="279360" cy="25092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4" descr=""/>
          <p:cNvPicPr/>
          <p:nvPr/>
        </p:nvPicPr>
        <p:blipFill>
          <a:blip r:embed="rId3"/>
          <a:stretch/>
        </p:blipFill>
        <p:spPr>
          <a:xfrm>
            <a:off x="468360" y="3352680"/>
            <a:ext cx="279360" cy="2509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4" descr=""/>
          <p:cNvPicPr/>
          <p:nvPr/>
        </p:nvPicPr>
        <p:blipFill>
          <a:blip r:embed="rId4"/>
          <a:stretch/>
        </p:blipFill>
        <p:spPr>
          <a:xfrm>
            <a:off x="468360" y="4199040"/>
            <a:ext cx="279360" cy="25056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4" descr=""/>
          <p:cNvPicPr/>
          <p:nvPr/>
        </p:nvPicPr>
        <p:blipFill>
          <a:blip r:embed="rId5"/>
          <a:stretch/>
        </p:blipFill>
        <p:spPr>
          <a:xfrm>
            <a:off x="468360" y="4789440"/>
            <a:ext cx="279360" cy="2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8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8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3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Picture 1" descr=""/>
          <p:cNvPicPr/>
          <p:nvPr/>
        </p:nvPicPr>
        <p:blipFill>
          <a:blip r:embed="rId1"/>
          <a:stretch/>
        </p:blipFill>
        <p:spPr>
          <a:xfrm>
            <a:off x="190440" y="841320"/>
            <a:ext cx="8763120" cy="309564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2" descr=""/>
          <p:cNvPicPr/>
          <p:nvPr/>
        </p:nvPicPr>
        <p:blipFill>
          <a:blip r:embed="rId2"/>
          <a:stretch/>
        </p:blipFill>
        <p:spPr>
          <a:xfrm>
            <a:off x="203040" y="3948120"/>
            <a:ext cx="8134560" cy="255276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4" descr=""/>
          <p:cNvPicPr/>
          <p:nvPr/>
        </p:nvPicPr>
        <p:blipFill>
          <a:blip r:embed="rId3"/>
          <a:stretch/>
        </p:blipFill>
        <p:spPr>
          <a:xfrm>
            <a:off x="468360" y="3127320"/>
            <a:ext cx="279360" cy="2509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4" descr=""/>
          <p:cNvPicPr/>
          <p:nvPr/>
        </p:nvPicPr>
        <p:blipFill>
          <a:blip r:embed="rId4"/>
          <a:stretch/>
        </p:blipFill>
        <p:spPr>
          <a:xfrm>
            <a:off x="468360" y="4545000"/>
            <a:ext cx="279360" cy="25236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4" descr=""/>
          <p:cNvPicPr/>
          <p:nvPr/>
        </p:nvPicPr>
        <p:blipFill>
          <a:blip r:embed="rId5"/>
          <a:stretch/>
        </p:blipFill>
        <p:spPr>
          <a:xfrm>
            <a:off x="468360" y="5116680"/>
            <a:ext cx="279360" cy="2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0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5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0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Picture 1" descr=""/>
          <p:cNvPicPr/>
          <p:nvPr/>
        </p:nvPicPr>
        <p:blipFill>
          <a:blip r:embed="rId1"/>
          <a:stretch/>
        </p:blipFill>
        <p:spPr>
          <a:xfrm>
            <a:off x="209520" y="814320"/>
            <a:ext cx="8724960" cy="597240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4" descr=""/>
          <p:cNvPicPr/>
          <p:nvPr/>
        </p:nvPicPr>
        <p:blipFill>
          <a:blip r:embed="rId2"/>
          <a:stretch/>
        </p:blipFill>
        <p:spPr>
          <a:xfrm>
            <a:off x="468360" y="817560"/>
            <a:ext cx="279360" cy="2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7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Picture 1" descr=""/>
          <p:cNvPicPr/>
          <p:nvPr/>
        </p:nvPicPr>
        <p:blipFill>
          <a:blip r:embed="rId1"/>
          <a:stretch/>
        </p:blipFill>
        <p:spPr>
          <a:xfrm>
            <a:off x="209520" y="762120"/>
            <a:ext cx="8724960" cy="595296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4" descr=""/>
          <p:cNvPicPr/>
          <p:nvPr/>
        </p:nvPicPr>
        <p:blipFill>
          <a:blip r:embed="rId2"/>
          <a:stretch/>
        </p:blipFill>
        <p:spPr>
          <a:xfrm>
            <a:off x="468360" y="1050840"/>
            <a:ext cx="279360" cy="25092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4" descr=""/>
          <p:cNvPicPr/>
          <p:nvPr/>
        </p:nvPicPr>
        <p:blipFill>
          <a:blip r:embed="rId3"/>
          <a:stretch/>
        </p:blipFill>
        <p:spPr>
          <a:xfrm>
            <a:off x="468360" y="2440080"/>
            <a:ext cx="279360" cy="25056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4" descr=""/>
          <p:cNvPicPr/>
          <p:nvPr/>
        </p:nvPicPr>
        <p:blipFill>
          <a:blip r:embed="rId4"/>
          <a:stretch/>
        </p:blipFill>
        <p:spPr>
          <a:xfrm>
            <a:off x="468360" y="3274920"/>
            <a:ext cx="279360" cy="25236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4" descr=""/>
          <p:cNvPicPr/>
          <p:nvPr/>
        </p:nvPicPr>
        <p:blipFill>
          <a:blip r:embed="rId5"/>
          <a:stretch/>
        </p:blipFill>
        <p:spPr>
          <a:xfrm>
            <a:off x="468360" y="5005440"/>
            <a:ext cx="279360" cy="2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4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9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4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Picture 1" descr=""/>
          <p:cNvPicPr/>
          <p:nvPr/>
        </p:nvPicPr>
        <p:blipFill>
          <a:blip r:embed="rId1"/>
          <a:stretch/>
        </p:blipFill>
        <p:spPr>
          <a:xfrm>
            <a:off x="209520" y="735120"/>
            <a:ext cx="8724960" cy="482904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2" descr=""/>
          <p:cNvPicPr/>
          <p:nvPr/>
        </p:nvPicPr>
        <p:blipFill>
          <a:blip r:embed="rId2"/>
          <a:srcRect l="0" t="0" r="0" b="33397"/>
          <a:stretch/>
        </p:blipFill>
        <p:spPr>
          <a:xfrm>
            <a:off x="192240" y="5592600"/>
            <a:ext cx="8677080" cy="112248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4" descr=""/>
          <p:cNvPicPr/>
          <p:nvPr/>
        </p:nvPicPr>
        <p:blipFill>
          <a:blip r:embed="rId3"/>
          <a:stretch/>
        </p:blipFill>
        <p:spPr>
          <a:xfrm>
            <a:off x="468360" y="4722840"/>
            <a:ext cx="279360" cy="2523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4" descr=""/>
          <p:cNvPicPr/>
          <p:nvPr/>
        </p:nvPicPr>
        <p:blipFill>
          <a:blip r:embed="rId4"/>
          <a:stretch/>
        </p:blipFill>
        <p:spPr>
          <a:xfrm>
            <a:off x="468360" y="5595840"/>
            <a:ext cx="279360" cy="2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Picture 1" descr=""/>
          <p:cNvPicPr/>
          <p:nvPr/>
        </p:nvPicPr>
        <p:blipFill>
          <a:blip r:embed="rId1"/>
          <a:stretch/>
        </p:blipFill>
        <p:spPr>
          <a:xfrm>
            <a:off x="200160" y="814320"/>
            <a:ext cx="8743680" cy="597240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4" descr=""/>
          <p:cNvPicPr/>
          <p:nvPr/>
        </p:nvPicPr>
        <p:blipFill>
          <a:blip r:embed="rId2"/>
          <a:stretch/>
        </p:blipFill>
        <p:spPr>
          <a:xfrm>
            <a:off x="468360" y="1368360"/>
            <a:ext cx="279360" cy="25092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4" descr=""/>
          <p:cNvPicPr/>
          <p:nvPr/>
        </p:nvPicPr>
        <p:blipFill>
          <a:blip r:embed="rId3"/>
          <a:stretch/>
        </p:blipFill>
        <p:spPr>
          <a:xfrm>
            <a:off x="468360" y="2214720"/>
            <a:ext cx="279360" cy="25056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"/>
          <p:cNvPicPr/>
          <p:nvPr/>
        </p:nvPicPr>
        <p:blipFill>
          <a:blip r:embed="rId4"/>
          <a:stretch/>
        </p:blipFill>
        <p:spPr>
          <a:xfrm>
            <a:off x="468360" y="3678120"/>
            <a:ext cx="279360" cy="2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8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3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8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5" name="Picture 1" descr=""/>
          <p:cNvPicPr/>
          <p:nvPr/>
        </p:nvPicPr>
        <p:blipFill>
          <a:blip r:embed="rId1"/>
          <a:stretch/>
        </p:blipFill>
        <p:spPr>
          <a:xfrm>
            <a:off x="223920" y="824040"/>
            <a:ext cx="8696160" cy="59626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4" descr=""/>
          <p:cNvPicPr/>
          <p:nvPr/>
        </p:nvPicPr>
        <p:blipFill>
          <a:blip r:embed="rId2"/>
          <a:stretch/>
        </p:blipFill>
        <p:spPr>
          <a:xfrm>
            <a:off x="142920" y="3948120"/>
            <a:ext cx="9001080" cy="23652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4" descr=""/>
          <p:cNvPicPr/>
          <p:nvPr/>
        </p:nvPicPr>
        <p:blipFill>
          <a:blip r:embed="rId3"/>
          <a:stretch/>
        </p:blipFill>
        <p:spPr>
          <a:xfrm>
            <a:off x="142920" y="4521240"/>
            <a:ext cx="9001080" cy="23796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4" descr=""/>
          <p:cNvPicPr/>
          <p:nvPr/>
        </p:nvPicPr>
        <p:blipFill>
          <a:blip r:embed="rId4"/>
          <a:stretch/>
        </p:blipFill>
        <p:spPr>
          <a:xfrm>
            <a:off x="142920" y="4805280"/>
            <a:ext cx="9001080" cy="23652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4" descr=""/>
          <p:cNvPicPr/>
          <p:nvPr/>
        </p:nvPicPr>
        <p:blipFill>
          <a:blip r:embed="rId5"/>
          <a:stretch/>
        </p:blipFill>
        <p:spPr>
          <a:xfrm>
            <a:off x="142920" y="5378400"/>
            <a:ext cx="9001080" cy="23832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4" descr=""/>
          <p:cNvPicPr/>
          <p:nvPr/>
        </p:nvPicPr>
        <p:blipFill>
          <a:blip r:embed="rId6"/>
          <a:stretch/>
        </p:blipFill>
        <p:spPr>
          <a:xfrm>
            <a:off x="6929280" y="6195960"/>
            <a:ext cx="785880" cy="28260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4" descr=""/>
          <p:cNvPicPr/>
          <p:nvPr/>
        </p:nvPicPr>
        <p:blipFill>
          <a:blip r:embed="rId7"/>
          <a:stretch/>
        </p:blipFill>
        <p:spPr>
          <a:xfrm>
            <a:off x="1428840" y="6483240"/>
            <a:ext cx="92844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5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0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5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0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5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0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3319560" y="609480"/>
            <a:ext cx="2504880" cy="5335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2" descr=""/>
          <p:cNvPicPr/>
          <p:nvPr/>
        </p:nvPicPr>
        <p:blipFill>
          <a:blip r:embed="rId2"/>
          <a:stretch/>
        </p:blipFill>
        <p:spPr>
          <a:xfrm>
            <a:off x="204840" y="1214280"/>
            <a:ext cx="8734320" cy="56199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3"/>
          <a:stretch/>
        </p:blipFill>
        <p:spPr>
          <a:xfrm>
            <a:off x="468360" y="2011320"/>
            <a:ext cx="279360" cy="2509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4"/>
          <a:stretch/>
        </p:blipFill>
        <p:spPr>
          <a:xfrm>
            <a:off x="468360" y="2286000"/>
            <a:ext cx="279360" cy="2509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5"/>
          <a:stretch/>
        </p:blipFill>
        <p:spPr>
          <a:xfrm>
            <a:off x="468360" y="2571840"/>
            <a:ext cx="279360" cy="2505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6"/>
          <a:stretch/>
        </p:blipFill>
        <p:spPr>
          <a:xfrm>
            <a:off x="468360" y="2857680"/>
            <a:ext cx="279360" cy="2505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7"/>
          <a:stretch/>
        </p:blipFill>
        <p:spPr>
          <a:xfrm>
            <a:off x="468360" y="3106800"/>
            <a:ext cx="279360" cy="2509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8"/>
          <a:stretch/>
        </p:blipFill>
        <p:spPr>
          <a:xfrm>
            <a:off x="468360" y="4249800"/>
            <a:ext cx="279360" cy="2509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9"/>
          <a:stretch/>
        </p:blipFill>
        <p:spPr>
          <a:xfrm>
            <a:off x="468360" y="5178600"/>
            <a:ext cx="279360" cy="2505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10"/>
          <a:stretch/>
        </p:blipFill>
        <p:spPr>
          <a:xfrm>
            <a:off x="468360" y="5964120"/>
            <a:ext cx="279360" cy="2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2" name="Picture 1" descr=""/>
          <p:cNvPicPr/>
          <p:nvPr/>
        </p:nvPicPr>
        <p:blipFill>
          <a:blip r:embed="rId1"/>
          <a:stretch/>
        </p:blipFill>
        <p:spPr>
          <a:xfrm>
            <a:off x="214200" y="785880"/>
            <a:ext cx="8715600" cy="600084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4" descr=""/>
          <p:cNvPicPr/>
          <p:nvPr/>
        </p:nvPicPr>
        <p:blipFill>
          <a:blip r:embed="rId2"/>
          <a:stretch/>
        </p:blipFill>
        <p:spPr>
          <a:xfrm>
            <a:off x="142920" y="4226040"/>
            <a:ext cx="9001080" cy="2300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4" descr=""/>
          <p:cNvPicPr/>
          <p:nvPr/>
        </p:nvPicPr>
        <p:blipFill>
          <a:blip r:embed="rId3"/>
          <a:stretch/>
        </p:blipFill>
        <p:spPr>
          <a:xfrm>
            <a:off x="142920" y="4508640"/>
            <a:ext cx="9001080" cy="2332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4" descr=""/>
          <p:cNvPicPr/>
          <p:nvPr/>
        </p:nvPicPr>
        <p:blipFill>
          <a:blip r:embed="rId4"/>
          <a:stretch/>
        </p:blipFill>
        <p:spPr>
          <a:xfrm>
            <a:off x="142920" y="4775040"/>
            <a:ext cx="9001080" cy="23832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4" descr=""/>
          <p:cNvPicPr/>
          <p:nvPr/>
        </p:nvPicPr>
        <p:blipFill>
          <a:blip r:embed="rId5"/>
          <a:stretch/>
        </p:blipFill>
        <p:spPr>
          <a:xfrm>
            <a:off x="142920" y="5079960"/>
            <a:ext cx="9001080" cy="23832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4" descr=""/>
          <p:cNvPicPr/>
          <p:nvPr/>
        </p:nvPicPr>
        <p:blipFill>
          <a:blip r:embed="rId6"/>
          <a:stretch/>
        </p:blipFill>
        <p:spPr>
          <a:xfrm>
            <a:off x="100080" y="5357880"/>
            <a:ext cx="9002520" cy="23796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4" descr=""/>
          <p:cNvPicPr/>
          <p:nvPr/>
        </p:nvPicPr>
        <p:blipFill>
          <a:blip r:embed="rId7"/>
          <a:stretch/>
        </p:blipFill>
        <p:spPr>
          <a:xfrm>
            <a:off x="142920" y="5641920"/>
            <a:ext cx="9001080" cy="23652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4" descr=""/>
          <p:cNvPicPr/>
          <p:nvPr/>
        </p:nvPicPr>
        <p:blipFill>
          <a:blip r:embed="rId8"/>
          <a:stretch/>
        </p:blipFill>
        <p:spPr>
          <a:xfrm>
            <a:off x="142920" y="5937120"/>
            <a:ext cx="9001080" cy="23832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4" descr=""/>
          <p:cNvPicPr/>
          <p:nvPr/>
        </p:nvPicPr>
        <p:blipFill>
          <a:blip r:embed="rId9"/>
          <a:stretch/>
        </p:blipFill>
        <p:spPr>
          <a:xfrm>
            <a:off x="142920" y="6222960"/>
            <a:ext cx="9001080" cy="23832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4" descr=""/>
          <p:cNvPicPr/>
          <p:nvPr/>
        </p:nvPicPr>
        <p:blipFill>
          <a:blip r:embed="rId10"/>
          <a:stretch/>
        </p:blipFill>
        <p:spPr>
          <a:xfrm>
            <a:off x="142920" y="6508800"/>
            <a:ext cx="9001080" cy="23796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4" descr=""/>
          <p:cNvPicPr/>
          <p:nvPr/>
        </p:nvPicPr>
        <p:blipFill>
          <a:blip r:embed="rId11"/>
          <a:stretch/>
        </p:blipFill>
        <p:spPr>
          <a:xfrm>
            <a:off x="5214960" y="746280"/>
            <a:ext cx="1071720" cy="2826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4" descr=""/>
          <p:cNvPicPr/>
          <p:nvPr/>
        </p:nvPicPr>
        <p:blipFill>
          <a:blip r:embed="rId12"/>
          <a:stretch/>
        </p:blipFill>
        <p:spPr>
          <a:xfrm>
            <a:off x="2857680" y="1031760"/>
            <a:ext cx="1000080" cy="2826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4" descr=""/>
          <p:cNvPicPr/>
          <p:nvPr/>
        </p:nvPicPr>
        <p:blipFill>
          <a:blip r:embed="rId13"/>
          <a:stretch/>
        </p:blipFill>
        <p:spPr>
          <a:xfrm>
            <a:off x="4643280" y="1327320"/>
            <a:ext cx="857520" cy="28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7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2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7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2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7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2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7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2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7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2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7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2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1" descr=""/>
          <p:cNvPicPr/>
          <p:nvPr/>
        </p:nvPicPr>
        <p:blipFill>
          <a:blip r:embed="rId1"/>
          <a:stretch/>
        </p:blipFill>
        <p:spPr>
          <a:xfrm>
            <a:off x="390600" y="1062000"/>
            <a:ext cx="8362800" cy="51530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2"/>
          <a:stretch/>
        </p:blipFill>
        <p:spPr>
          <a:xfrm>
            <a:off x="609480" y="1071720"/>
            <a:ext cx="279360" cy="2505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3"/>
          <a:stretch/>
        </p:blipFill>
        <p:spPr>
          <a:xfrm>
            <a:off x="639720" y="2039760"/>
            <a:ext cx="277920" cy="2509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4"/>
          <a:stretch/>
        </p:blipFill>
        <p:spPr>
          <a:xfrm>
            <a:off x="628560" y="2921040"/>
            <a:ext cx="279360" cy="2523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5"/>
          <a:stretch/>
        </p:blipFill>
        <p:spPr>
          <a:xfrm>
            <a:off x="592200" y="4035600"/>
            <a:ext cx="279360" cy="2505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6"/>
          <a:stretch/>
        </p:blipFill>
        <p:spPr>
          <a:xfrm>
            <a:off x="628560" y="4584600"/>
            <a:ext cx="279360" cy="2523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7"/>
          <a:stretch/>
        </p:blipFill>
        <p:spPr>
          <a:xfrm>
            <a:off x="649440" y="5138640"/>
            <a:ext cx="279360" cy="2509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8"/>
          <a:stretch/>
        </p:blipFill>
        <p:spPr>
          <a:xfrm>
            <a:off x="649440" y="5699160"/>
            <a:ext cx="279360" cy="2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1" descr=""/>
          <p:cNvPicPr/>
          <p:nvPr/>
        </p:nvPicPr>
        <p:blipFill>
          <a:blip r:embed="rId1"/>
          <a:stretch/>
        </p:blipFill>
        <p:spPr>
          <a:xfrm>
            <a:off x="471600" y="714240"/>
            <a:ext cx="8200800" cy="41529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2" descr=""/>
          <p:cNvPicPr/>
          <p:nvPr/>
        </p:nvPicPr>
        <p:blipFill>
          <a:blip r:embed="rId2"/>
          <a:stretch/>
        </p:blipFill>
        <p:spPr>
          <a:xfrm>
            <a:off x="423720" y="4886280"/>
            <a:ext cx="8296560" cy="140040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" descr=""/>
          <p:cNvPicPr/>
          <p:nvPr/>
        </p:nvPicPr>
        <p:blipFill>
          <a:blip r:embed="rId3"/>
          <a:stretch/>
        </p:blipFill>
        <p:spPr>
          <a:xfrm>
            <a:off x="396720" y="6303960"/>
            <a:ext cx="8391600" cy="5335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4"/>
          <a:stretch/>
        </p:blipFill>
        <p:spPr>
          <a:xfrm>
            <a:off x="720720" y="1254240"/>
            <a:ext cx="279360" cy="2505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5"/>
          <a:stretch/>
        </p:blipFill>
        <p:spPr>
          <a:xfrm>
            <a:off x="720720" y="1817640"/>
            <a:ext cx="279360" cy="2509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6"/>
          <a:stretch/>
        </p:blipFill>
        <p:spPr>
          <a:xfrm>
            <a:off x="720720" y="2963880"/>
            <a:ext cx="279360" cy="2509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7"/>
          <a:stretch/>
        </p:blipFill>
        <p:spPr>
          <a:xfrm>
            <a:off x="731880" y="3500280"/>
            <a:ext cx="279360" cy="2509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8"/>
          <a:stretch/>
        </p:blipFill>
        <p:spPr>
          <a:xfrm>
            <a:off x="720720" y="4075200"/>
            <a:ext cx="279360" cy="2505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9"/>
          <a:stretch/>
        </p:blipFill>
        <p:spPr>
          <a:xfrm>
            <a:off x="649440" y="5178600"/>
            <a:ext cx="279360" cy="2505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10"/>
          <a:stretch/>
        </p:blipFill>
        <p:spPr>
          <a:xfrm>
            <a:off x="649440" y="5749920"/>
            <a:ext cx="279360" cy="2509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11"/>
          <a:stretch/>
        </p:blipFill>
        <p:spPr>
          <a:xfrm>
            <a:off x="617400" y="6310440"/>
            <a:ext cx="279360" cy="25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1" descr=""/>
          <p:cNvPicPr/>
          <p:nvPr/>
        </p:nvPicPr>
        <p:blipFill>
          <a:blip r:embed="rId1"/>
          <a:stretch/>
        </p:blipFill>
        <p:spPr>
          <a:xfrm>
            <a:off x="204840" y="866880"/>
            <a:ext cx="8734320" cy="584820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2"/>
          <a:stretch/>
        </p:blipFill>
        <p:spPr>
          <a:xfrm>
            <a:off x="468360" y="846000"/>
            <a:ext cx="279360" cy="2527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3"/>
          <a:stretch/>
        </p:blipFill>
        <p:spPr>
          <a:xfrm>
            <a:off x="468360" y="1440000"/>
            <a:ext cx="279360" cy="2505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4"/>
          <a:stretch/>
        </p:blipFill>
        <p:spPr>
          <a:xfrm>
            <a:off x="6500880" y="4092480"/>
            <a:ext cx="1000080" cy="28260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5"/>
          <a:stretch/>
        </p:blipFill>
        <p:spPr>
          <a:xfrm>
            <a:off x="2000160" y="5203800"/>
            <a:ext cx="785880" cy="28260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6"/>
          <a:stretch/>
        </p:blipFill>
        <p:spPr>
          <a:xfrm>
            <a:off x="6429240" y="4572000"/>
            <a:ext cx="928800" cy="28260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7"/>
          <a:stretch/>
        </p:blipFill>
        <p:spPr>
          <a:xfrm>
            <a:off x="7358040" y="5827680"/>
            <a:ext cx="1214640" cy="28260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8"/>
          <a:stretch/>
        </p:blipFill>
        <p:spPr>
          <a:xfrm>
            <a:off x="3786120" y="6307200"/>
            <a:ext cx="78588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Picture 1" descr=""/>
          <p:cNvPicPr/>
          <p:nvPr/>
        </p:nvPicPr>
        <p:blipFill>
          <a:blip r:embed="rId1"/>
          <a:stretch/>
        </p:blipFill>
        <p:spPr>
          <a:xfrm>
            <a:off x="228600" y="957240"/>
            <a:ext cx="8686800" cy="54007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4" descr=""/>
          <p:cNvPicPr/>
          <p:nvPr/>
        </p:nvPicPr>
        <p:blipFill>
          <a:blip r:embed="rId2"/>
          <a:stretch/>
        </p:blipFill>
        <p:spPr>
          <a:xfrm>
            <a:off x="468360" y="1785960"/>
            <a:ext cx="279360" cy="2509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4" descr=""/>
          <p:cNvPicPr/>
          <p:nvPr/>
        </p:nvPicPr>
        <p:blipFill>
          <a:blip r:embed="rId3"/>
          <a:stretch/>
        </p:blipFill>
        <p:spPr>
          <a:xfrm>
            <a:off x="468360" y="2643120"/>
            <a:ext cx="279360" cy="2509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4" descr=""/>
          <p:cNvPicPr/>
          <p:nvPr/>
        </p:nvPicPr>
        <p:blipFill>
          <a:blip r:embed="rId4"/>
          <a:stretch/>
        </p:blipFill>
        <p:spPr>
          <a:xfrm>
            <a:off x="468360" y="3484440"/>
            <a:ext cx="279360" cy="2509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4" descr=""/>
          <p:cNvPicPr/>
          <p:nvPr/>
        </p:nvPicPr>
        <p:blipFill>
          <a:blip r:embed="rId5"/>
          <a:stretch/>
        </p:blipFill>
        <p:spPr>
          <a:xfrm>
            <a:off x="468360" y="4678200"/>
            <a:ext cx="279360" cy="2509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4" descr=""/>
          <p:cNvPicPr/>
          <p:nvPr/>
        </p:nvPicPr>
        <p:blipFill>
          <a:blip r:embed="rId6"/>
          <a:stretch/>
        </p:blipFill>
        <p:spPr>
          <a:xfrm>
            <a:off x="468360" y="5227560"/>
            <a:ext cx="279360" cy="2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Picture 1" descr=""/>
          <p:cNvPicPr/>
          <p:nvPr/>
        </p:nvPicPr>
        <p:blipFill>
          <a:blip r:embed="rId1"/>
          <a:stretch/>
        </p:blipFill>
        <p:spPr>
          <a:xfrm>
            <a:off x="228600" y="776160"/>
            <a:ext cx="8686800" cy="601056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" descr=""/>
          <p:cNvPicPr/>
          <p:nvPr/>
        </p:nvPicPr>
        <p:blipFill>
          <a:blip r:embed="rId2"/>
          <a:stretch/>
        </p:blipFill>
        <p:spPr>
          <a:xfrm>
            <a:off x="468360" y="785880"/>
            <a:ext cx="279360" cy="2509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4" descr=""/>
          <p:cNvPicPr/>
          <p:nvPr/>
        </p:nvPicPr>
        <p:blipFill>
          <a:blip r:embed="rId3"/>
          <a:stretch/>
        </p:blipFill>
        <p:spPr>
          <a:xfrm>
            <a:off x="468360" y="1643040"/>
            <a:ext cx="279360" cy="2509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4" descr=""/>
          <p:cNvPicPr/>
          <p:nvPr/>
        </p:nvPicPr>
        <p:blipFill>
          <a:blip r:embed="rId4"/>
          <a:stretch/>
        </p:blipFill>
        <p:spPr>
          <a:xfrm>
            <a:off x="468360" y="2225520"/>
            <a:ext cx="279360" cy="25092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4" descr=""/>
          <p:cNvPicPr/>
          <p:nvPr/>
        </p:nvPicPr>
        <p:blipFill>
          <a:blip r:embed="rId5"/>
          <a:stretch/>
        </p:blipFill>
        <p:spPr>
          <a:xfrm>
            <a:off x="468360" y="3341520"/>
            <a:ext cx="279360" cy="25092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4" descr=""/>
          <p:cNvPicPr/>
          <p:nvPr/>
        </p:nvPicPr>
        <p:blipFill>
          <a:blip r:embed="rId6"/>
          <a:stretch/>
        </p:blipFill>
        <p:spPr>
          <a:xfrm>
            <a:off x="468360" y="4535640"/>
            <a:ext cx="279360" cy="25056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4" descr=""/>
          <p:cNvPicPr/>
          <p:nvPr/>
        </p:nvPicPr>
        <p:blipFill>
          <a:blip r:embed="rId7"/>
          <a:stretch/>
        </p:blipFill>
        <p:spPr>
          <a:xfrm>
            <a:off x="468360" y="5678640"/>
            <a:ext cx="279360" cy="25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Picture 1" descr=""/>
          <p:cNvPicPr/>
          <p:nvPr/>
        </p:nvPicPr>
        <p:blipFill>
          <a:blip r:embed="rId1"/>
          <a:srcRect l="0" t="0" r="0" b="3785"/>
          <a:stretch/>
        </p:blipFill>
        <p:spPr>
          <a:xfrm>
            <a:off x="209520" y="774720"/>
            <a:ext cx="8724960" cy="601200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4" descr=""/>
          <p:cNvPicPr/>
          <p:nvPr/>
        </p:nvPicPr>
        <p:blipFill>
          <a:blip r:embed="rId2"/>
          <a:stretch/>
        </p:blipFill>
        <p:spPr>
          <a:xfrm>
            <a:off x="468360" y="816120"/>
            <a:ext cx="279360" cy="25056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4" descr=""/>
          <p:cNvPicPr/>
          <p:nvPr/>
        </p:nvPicPr>
        <p:blipFill>
          <a:blip r:embed="rId3"/>
          <a:stretch/>
        </p:blipFill>
        <p:spPr>
          <a:xfrm>
            <a:off x="468360" y="1940040"/>
            <a:ext cx="279360" cy="25056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4" descr=""/>
          <p:cNvPicPr/>
          <p:nvPr/>
        </p:nvPicPr>
        <p:blipFill>
          <a:blip r:embed="rId4"/>
          <a:stretch/>
        </p:blipFill>
        <p:spPr>
          <a:xfrm>
            <a:off x="468360" y="2797200"/>
            <a:ext cx="279360" cy="25092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4" descr=""/>
          <p:cNvPicPr/>
          <p:nvPr/>
        </p:nvPicPr>
        <p:blipFill>
          <a:blip r:embed="rId5"/>
          <a:stretch/>
        </p:blipFill>
        <p:spPr>
          <a:xfrm>
            <a:off x="468360" y="4495680"/>
            <a:ext cx="279360" cy="2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Picture 1" descr=""/>
          <p:cNvPicPr/>
          <p:nvPr/>
        </p:nvPicPr>
        <p:blipFill>
          <a:blip r:embed="rId1"/>
          <a:stretch/>
        </p:blipFill>
        <p:spPr>
          <a:xfrm>
            <a:off x="190440" y="809640"/>
            <a:ext cx="8763120" cy="590544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4" descr=""/>
          <p:cNvPicPr/>
          <p:nvPr/>
        </p:nvPicPr>
        <p:blipFill>
          <a:blip r:embed="rId2"/>
          <a:stretch/>
        </p:blipFill>
        <p:spPr>
          <a:xfrm>
            <a:off x="468360" y="4719600"/>
            <a:ext cx="279360" cy="25092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4" descr=""/>
          <p:cNvPicPr/>
          <p:nvPr/>
        </p:nvPicPr>
        <p:blipFill>
          <a:blip r:embed="rId3"/>
          <a:stretch/>
        </p:blipFill>
        <p:spPr>
          <a:xfrm>
            <a:off x="468360" y="5030640"/>
            <a:ext cx="279360" cy="25092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4" descr=""/>
          <p:cNvPicPr/>
          <p:nvPr/>
        </p:nvPicPr>
        <p:blipFill>
          <a:blip r:embed="rId4"/>
          <a:stretch/>
        </p:blipFill>
        <p:spPr>
          <a:xfrm>
            <a:off x="468360" y="5321160"/>
            <a:ext cx="279360" cy="25092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4" descr=""/>
          <p:cNvPicPr/>
          <p:nvPr/>
        </p:nvPicPr>
        <p:blipFill>
          <a:blip r:embed="rId5"/>
          <a:stretch/>
        </p:blipFill>
        <p:spPr>
          <a:xfrm>
            <a:off x="468360" y="5853240"/>
            <a:ext cx="279360" cy="25056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4" descr=""/>
          <p:cNvPicPr/>
          <p:nvPr/>
        </p:nvPicPr>
        <p:blipFill>
          <a:blip r:embed="rId6"/>
          <a:stretch/>
        </p:blipFill>
        <p:spPr>
          <a:xfrm>
            <a:off x="468360" y="6138720"/>
            <a:ext cx="279360" cy="25092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4" descr=""/>
          <p:cNvPicPr/>
          <p:nvPr/>
        </p:nvPicPr>
        <p:blipFill>
          <a:blip r:embed="rId7"/>
          <a:stretch/>
        </p:blipFill>
        <p:spPr>
          <a:xfrm>
            <a:off x="468360" y="6442200"/>
            <a:ext cx="279360" cy="2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8T01:35:12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