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86D-92E1-4459-8F66-0131C311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A20-EB1B-48A1-9361-57B01B07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20570-4CDA-43D6-BDAE-36E890C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04FB-54A2-4DA1-9564-52DC6CA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02A2-2C30-4DE8-9F89-09521AE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419CB-F8AC-41CB-8F13-ECDA109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48254-C309-4AED-9642-AA861AE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8959-A75D-4126-9873-2786AC8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5ABF1-D2CC-4062-8229-519CF5C8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0443C-B5E1-490C-A68B-7700F696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4DDA9-5B3D-442D-A7BC-899F4C44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C43EA-56AB-4D62-A98D-F5D6FDFB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1EE-DE6F-4E86-8F49-DEA68633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BE09-1C8D-4392-B864-28886C6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AD791-071E-42EC-8FBD-263D418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B71B8-E1DF-4439-AC7F-B9982C7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F55A5-CAC4-42EA-9679-4019B64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69E7-A468-40F6-82C1-BA080A5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69406-456B-4F06-BF14-334D5DD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8F56-8202-47ED-A49E-6B76FEE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FC905-D138-4A7C-B207-D9695EB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B4681-9B66-46D7-888F-297C78D0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1A3CA-6CF8-463C-9860-8FB4DE5C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293-6F6B-483F-87E5-472A3E31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390B9-BA00-4C6D-8887-4EC6FAA4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D671-7A79-490E-95D0-D5CBFCE1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18EB5-52FD-4373-9C68-0CAB4025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5228-FCEE-4394-AF48-6F3C2D6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C2941-59C0-4C17-B8B1-B36C265A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5FFA7-04C6-4052-BF3C-0BE60B66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DEE98-E846-4709-9A79-E52D25A0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8D3B3-FE5A-4EFE-815C-36F76D3D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709E-CCE5-4326-96FE-52B925A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02AAD-8546-4AF9-B7CF-CA821477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2CF2-42AE-4729-A371-DDFDDCE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F3FFE-BCFD-4B56-9FDA-0723F37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E81D-A49C-46AE-B5D0-76CAD716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44270-0999-4943-9338-B16BF5F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8B24F-121F-4BE6-B94E-AF806D71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07E42-7018-48A4-B5B2-61F50B7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49355-5B2E-49E3-884C-5C5F3610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560A0-7745-46E6-BB12-4DE53DC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DD571-BF8A-4427-9F27-A093563D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AC3DC-2EB3-4C0E-8D87-17F193D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4E421-632B-4FE9-B0B2-19F4F48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A412-0803-469A-833A-D0557BC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BA7B4-C48C-496F-8A1C-DAC0DC3E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ECD6B-6511-46E2-B106-7F3C6E1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5F61B-170C-4195-8171-1DE9407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B2767-944B-4ADA-96C2-6B94AE08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1E471-6B61-4FDD-8BAD-4B727998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47C4D-F8E3-4620-94A3-431AF63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137E4-1D1F-4853-B359-1822FAE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6DDF8-5888-4494-9935-930BA83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34F96-A48C-4731-8667-4ED311C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43615-9508-4AB7-A59C-0B08B3D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68D9-9CE4-44D9-A448-1DCB075F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CD7FD-D664-4768-A473-21CA85C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75B4F-9389-4D23-8444-B877BB5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EF489-A146-4F00-98FF-CC6DC92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00677-003B-476A-81B5-4774664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D9F69-12ED-4EBD-A340-592C56DD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76F52-6225-4977-ADF5-CFA97AA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38095-D976-425A-9437-6E0F990C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4DFF3-F299-4E6E-8DC7-D7C272C5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DD618-D02B-494A-99F0-CE31B422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AA0B5-4B5D-48DB-B524-D106E57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A6D-A6E5-4D5D-B3BA-CCCD579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1FD71-EA35-443E-A2E7-D4682AE1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B4873-5C71-4B9D-B821-5E0F3E3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F175C-37D9-4839-BD82-594DD127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87930-A4B6-4EAC-9DDF-2F11ABD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3D268-8A2D-489F-81FB-767D617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CAC23-9126-41D6-A586-3E98E33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45EB1-A346-4AA7-8162-351960C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D0141-8617-4E80-A491-FF9B1AB2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2C7A1-76C1-48AA-B586-5CD7FC96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27EF2-47AD-4714-8C60-84161EF1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192-762D-4623-914F-BCD26A6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A7628-A6CF-4B67-A633-DD0C2BE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26730-07ED-4505-8179-62C9B71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F3A45-9681-4601-8096-B4D43E4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660F7-2121-4E30-87EA-1634832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69BBC-9163-453D-A61A-3E1F461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5A262-21A2-4BF1-9991-0B8B09A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A7C92-0253-4157-AA99-2126346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451F8-C016-4B17-BCDD-67F6CDB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918CF-73D6-44D9-89E2-85EE0E1C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E38D4-5E56-4CA7-A421-BB98A23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94C-94D1-4314-8219-8375C7C5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33E7A-E500-4521-BB74-C8758A97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47AA4-2A36-49A6-8F26-F0E16888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936BD-45F2-489F-9FE7-D763933D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E35D2-C0E6-42A3-B182-7680C92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A3FBC-8590-4ABD-A118-2C53AC4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EE972-67B9-4DA7-ACEE-DDB6B2F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2B580-173C-443A-84DE-00D1410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969C4-8857-47D1-BC5F-DC6DDBD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6928F-DFC5-4649-812B-3B72E2B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CEBDD-1EC3-462F-888A-1A307BF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2422-50AA-4D34-AE13-37AB380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5D2D4-E235-46FA-88DB-524A07FA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D2CE3-4848-4974-8CCF-4E306ACB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EEBDB-CA15-478C-A00A-6A31302F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C9302-2809-4054-8EDD-65B83B2D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CEF1C-C461-49D2-BA33-55CE5B8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020F9-5939-445A-86D8-3B076B5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C14AD-121E-4529-B835-5F56731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91878-BD4D-4E43-8254-2CD0FB0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E5FE3-DF11-4877-BF58-78FB8FA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59475-4707-4DF6-AC31-7FD4F50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121-5EE2-48A4-B710-B341A844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EB5D-0EB2-4B6C-B355-E66CEFD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55002-D833-4A9A-991C-CB017B3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0F6FC-038B-4292-894E-0DA8492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BCC7E-92FF-4ABC-A582-BC5769B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8BB09-7A12-4EE7-AE05-FD02B4E8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CACD6-5B98-412C-A751-31315EA7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07BEE-3AF4-4931-B943-FBC6E6F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886AD-3CBF-4D01-96BB-55E5BC1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CF1CA-ABD5-4536-ABE9-CD4FB56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5E2B3-05BD-4B52-9E60-032E76C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6A0BE-477E-4813-A380-031EF873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935-B08C-42EA-9394-1C96089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147D3-D90F-4A9B-B4CC-A1AC069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A8968-27C2-49F0-8257-AC531F0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E97B4-93A2-4E36-8686-CBD6FBA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677C8-1CFD-4923-88B5-01832AAA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E7494-77B7-4642-828B-720EEFF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CA757-5CBA-400C-A5AD-1D903069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B021D-9033-4D7C-AF0C-01C2F27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F43C5-D1F1-49D5-B55C-E7F9DB57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6B7CC-AE15-4173-B1B1-3059BDE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913E3-02CE-4DC5-881B-1471B13B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76E6-8262-49E6-BD48-FD7D23B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6C5F5-891A-49CE-9F9F-680D4912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B0108-4931-4103-973B-1FA98CB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2BC9D-2019-4546-BD44-241BB7C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23B77-88E0-4F95-B446-1D15876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600E9-B725-4337-98E8-ABF9500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5A134-984B-4955-9E5A-4F3C460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500D2-2322-47FB-8449-B8369CC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F3983-3D6F-463B-A731-1FBB487E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83DBD-D64A-4001-BDDB-C2336925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162C5-72D4-4BC3-8632-A9C96F6A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8437-5200-4486-A049-DE5AC147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29C19-9AA4-40CA-BABA-BD694B1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267A3-80E2-42E3-B1DB-18356BD8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35E94-00BE-482F-9DA9-7830F72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4CDE6-A29F-4FE7-B4BB-C3C3C0C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7CC66-1CE3-4886-B4D9-A813D9F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5ABA7-0791-46A9-8E76-9F03B69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9F27CF-12A8-4D84-9D89-627CD21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CAFC2-AC3A-4FAD-9D65-D9E50C6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28A8E-8C42-4A6E-BB5C-2848A2DD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A0236-CF7B-4D6C-AC22-4C137798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D97C-1952-40E2-86E8-7B15A22E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2BF6C-B9EA-4158-9DCE-04698A9B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7FC65-29C7-4BC8-B1C1-D20FBABF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055AF-F136-4AA5-A212-0DB9B531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2F54C-7B86-40E4-8662-6E3E9A2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9FF70-26AC-4EAB-892C-36A3174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70744-3DEF-48B4-9F17-24C067DD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5201C-459E-40E9-8046-B5FEF3E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59A90-C2C6-44CE-8F16-AFB56AA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D6D8A-0D5F-49D5-9F79-C007CC6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51CFC-B6D7-4036-B999-ACCC8B9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D022-7000-4486-A06A-EFF792B4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C2EB5-31F4-45FE-BB36-A840D12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E99B3-AEDD-4151-BC1A-D38BB34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402A2-00FA-4B7E-B9F7-D395634E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9E19-3392-4CC0-BD79-E208017B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2704-0FF1-469F-8D4C-CF2EFE9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8659-1AA9-4AA6-BE0A-4FD8643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EC9E-4B2C-475F-8A4E-13F8F34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AF8-BD2B-44C2-A79E-0639754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CE3A-0AFB-4D8B-BDAA-CA2D4254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F911-33EC-4479-8A55-6609F68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39E9-EAC8-45BB-9BF7-DF71B73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7CAF-5E74-4159-BD2E-A691396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7B8F-E9CF-45F6-B01A-A7E1474C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5FE8-FC30-4917-9D3C-20CFB04B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4FF2-19E1-44D4-86D9-7CB8630D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E549-1C82-4A1F-8145-4311C75B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E131-AA7F-446B-AA99-C02E7E8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F227-6546-411C-A2BE-FDD184D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5CB-367A-431A-9F17-CA63447D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5203-B0CE-4BFF-AB43-0D1E936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64E0-EC44-43D7-B0DF-9261CFE8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C2F6-6FED-429C-AD19-FC069BA2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1F2A-5B7F-4999-A615-2AAC3C2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EEAE-C7D5-46AE-A453-645FAC6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53BF-DE11-4D3A-88C2-7E25EE8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6EEE-4DD4-4A1F-9A13-2DD920C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5ADE-8C1F-4646-BD1C-F282A0EB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A29E-B0CE-49CE-A5A9-F2EF735C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9500-4A62-4B26-916E-3EBF21C8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432-7993-4752-BA61-D7C481FF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EDFC-0EB9-44EA-A7DC-65CF331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9601-7D3A-4C28-8597-3D0C658A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3F03-FCAC-4D96-97F7-4F554D5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B367-AC65-4796-A856-FC5F32E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99C2-D629-4EE9-8FC6-E8298910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F5C2-7C84-4EFE-BE6F-CBB4CD51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E046-580E-464D-916C-ACD134E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EA21-522B-443E-8229-2FA1C8C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4DEA-47F1-4846-9B63-5727F16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C275-F221-4199-8EA7-756EEF9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5E1-DF6A-4F1F-A618-ACD14E8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4E8D-6690-47AE-8741-7AEF5474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B99B-507C-4FC8-8889-6FE026FA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A113-30B7-4BE2-8394-5D7CA82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7F18-8578-43C9-B946-D32503D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F134-063D-4638-B9CB-0BD898F9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7453-7B83-493E-9277-7917279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DD98-E9BE-43E1-BE26-49F2363F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F298-8853-4133-98C8-C65910C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5FBA-B64E-4977-8F85-5A80554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005E-74A8-49DA-8226-7025FC0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332-D2FC-4FA4-89F5-6EE578E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8455-1D53-4209-A889-BC65DFC1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A223-B0FB-4A32-A037-476DED2D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8C486-23A0-48E2-8517-9B4BF8C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E2943-76C9-4439-B2DD-5A618C45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743C-0E38-403D-895D-C1DD9EFF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BB55-47A8-4ABD-91B0-5E51077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4F14-E69C-40D1-8131-D133FD4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B294-433D-4716-88AF-A0A9A3FE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8006-0C57-44DC-B3E3-ACF1911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F3046-6526-44F8-91A6-BEC12C8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5B8-B01B-4D58-97C9-FC645B36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1F67-44C0-4C3E-95C4-18D94AD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D1E8-B493-4C51-97AE-C9E77E2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46C4-BC36-4EB2-BC8B-BBA5972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0E98-E58C-4BCC-A133-167749F7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4083-4B15-495E-9FEA-D38852C6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668F-6424-4909-8DD0-673B229D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1FB2-5585-47AF-A945-F525F4A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CCE4-61E3-4719-A43D-4661D6A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39F4-3508-42CE-950F-A3E6E9CA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B5BB7-3012-4CE9-BFB9-BD1D765A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DBA-3D2B-4CBF-A9E4-7E2516A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55FD-0678-4821-8FE7-A849BEA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D286-CA35-4F4F-A8BE-1206498B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A8B9-D0A6-4B99-A658-269C585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B22B-E8A8-4FA1-BBA2-E0E129F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BC5D-039D-4B21-91DC-0E5E463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8421-5DA6-4C2D-8354-EB5CA441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EEE41-9583-4E88-AC1C-32C14AC6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16495-F590-437F-B439-94B7BF17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45293-BF3E-4652-BCBB-EE72BEB4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8082-D15E-4379-8621-0F604CCA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1DD-DBAD-4477-8FF8-E5A815FF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511A-8048-45F6-9DBB-CBB5AA9C2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BF0-5A7F-48EE-BF3A-56C4B021E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3C6F-5909-4E2B-89B5-1FDD90FB3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3640-42CA-443E-97E7-CD7245FCA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8E1-893F-4118-8052-039BE615BB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702-D4E8-4534-9FCD-C9270E245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4277-B7C0-4C8B-A335-AFFADBEC9E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4F9-2C5D-437D-8672-5C7FAD7CE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ED6-D264-4729-A3F9-78C168B7B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2EF0-0019-442F-A4B9-414E0F808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F2F-A56D-4B65-AEFE-AC5325A80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367-544A-42C1-9BED-D467B501BB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9DBA-CADC-41E5-B6A7-42D68FCD8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AEA-E608-4B19-B353-2330F0792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7C0-B2EE-4697-A999-EC50C7BE0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6A4-D659-40A1-981C-2222BF1F7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5C6-29C9-42E3-B79B-49ED1A473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9C8A-E94F-4AA7-B36F-3747ACD89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2F3D-02A2-43A3-BF44-120ADE462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6A5-5E67-4F62-B22B-5E1FB7DF9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E0F-7025-4AB6-B59C-AE92DD37C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8F7E-0550-45DC-92E5-F220D992F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D8D-8A10-4B09-B62D-8D219C2DF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1F2-A742-4880-8E85-7DF4A8DEB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2D7-FFBA-418D-9054-6919981BB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E6E-882A-42F6-88FA-107E5E786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211D-4AC2-4CAD-8898-C5F2F721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E38-D744-4367-9A91-60A90E105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DCCA-8FB8-406B-9307-908AC0340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2A5D-A354-4DE7-A147-D5775C923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51D0-5367-4C2C-A20E-E4928CE83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14B-2F30-4A3C-8E47-EA0B9B758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B9E-44FD-46CD-988F-2E23336A68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E1C-8C3A-4A3A-9F5A-7C2C5B915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094-24C5-474E-8DD5-4401D65A6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E18-5CC3-4193-B66D-4BD18ADF1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B16-D422-4339-B60E-4C5C4AE4AE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073D-73BA-4E6C-AC1F-EEEA8281F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C2C-16C3-43C8-8B38-26428CC81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3271680"/>
            <a:ext cx="8001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61960" y="914400"/>
            <a:ext cx="8020080" cy="5800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148360" y="335772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659640" y="3367080"/>
            <a:ext cx="158436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050920" y="5979960"/>
            <a:ext cx="1081080" cy="438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5292720" y="571176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5219640" y="623088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85720" y="1062000"/>
            <a:ext cx="7972560" cy="515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3059280" y="2914560"/>
            <a:ext cx="187308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3"/>
          <a:stretch/>
        </p:blipFill>
        <p:spPr>
          <a:xfrm>
            <a:off x="4932360" y="410832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4"/>
          <a:stretch/>
        </p:blipFill>
        <p:spPr>
          <a:xfrm>
            <a:off x="4643280" y="4637160"/>
            <a:ext cx="18734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5"/>
          <a:stretch/>
        </p:blipFill>
        <p:spPr>
          <a:xfrm>
            <a:off x="4786200" y="515160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6"/>
          <a:stretch/>
        </p:blipFill>
        <p:spPr>
          <a:xfrm>
            <a:off x="4938840" y="5686560"/>
            <a:ext cx="2728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47560" y="785880"/>
            <a:ext cx="8048880" cy="59245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762200" y="566100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747720" y="871560"/>
            <a:ext cx="7648560" cy="5772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547640" y="400536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33520" y="942840"/>
            <a:ext cx="8076960" cy="5629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754280" y="276372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763640" y="443700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1692360" y="4997520"/>
            <a:ext cx="691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776160" y="1133640"/>
            <a:ext cx="7591680" cy="5010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835280" y="11653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3419640" y="11653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6588000" y="119700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5"/>
          <a:stretch/>
        </p:blipFill>
        <p:spPr>
          <a:xfrm>
            <a:off x="1547640" y="340668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6"/>
          <a:stretch/>
        </p:blipFill>
        <p:spPr>
          <a:xfrm>
            <a:off x="3276720" y="3395520"/>
            <a:ext cx="79056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7"/>
          <a:stretch/>
        </p:blipFill>
        <p:spPr>
          <a:xfrm>
            <a:off x="4572000" y="34020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8"/>
          <a:stretch/>
        </p:blipFill>
        <p:spPr>
          <a:xfrm>
            <a:off x="1979640" y="50688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9"/>
          <a:stretch/>
        </p:blipFill>
        <p:spPr>
          <a:xfrm>
            <a:off x="6804000" y="506412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10"/>
          <a:stretch/>
        </p:blipFill>
        <p:spPr>
          <a:xfrm>
            <a:off x="1692360" y="5630760"/>
            <a:ext cx="22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447840" y="714240"/>
            <a:ext cx="8248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828720" y="1366920"/>
            <a:ext cx="7486560" cy="484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3224160" y="240984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3"/>
          <a:stretch/>
        </p:blipFill>
        <p:spPr>
          <a:xfrm>
            <a:off x="3203640" y="297036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4"/>
          <a:stretch/>
        </p:blipFill>
        <p:spPr>
          <a:xfrm>
            <a:off x="3203640" y="352116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5"/>
          <a:stretch/>
        </p:blipFill>
        <p:spPr>
          <a:xfrm>
            <a:off x="3276720" y="4687920"/>
            <a:ext cx="259056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6"/>
          <a:stretch/>
        </p:blipFill>
        <p:spPr>
          <a:xfrm>
            <a:off x="3336840" y="523404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7"/>
          <a:stretch/>
        </p:blipFill>
        <p:spPr>
          <a:xfrm>
            <a:off x="6602400" y="2698920"/>
            <a:ext cx="147780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8"/>
          <a:stretch/>
        </p:blipFill>
        <p:spPr>
          <a:xfrm>
            <a:off x="6084720" y="3247920"/>
            <a:ext cx="147672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9"/>
          <a:stretch/>
        </p:blipFill>
        <p:spPr>
          <a:xfrm>
            <a:off x="6572160" y="4684680"/>
            <a:ext cx="147636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10"/>
          <a:stretch/>
        </p:blipFill>
        <p:spPr>
          <a:xfrm>
            <a:off x="6048360" y="524340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