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D02-963B-4929-98C5-0FBB016F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01D-1A9C-407F-A650-C378DC0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5B46E-3245-45B2-ABFD-5DE3EDD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0CE3F-4876-4AAA-ACD3-327B5D4A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5F51E-0A7D-4024-8E56-685132D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6A28-3414-4B45-A376-9922F83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6DBB-B3C0-44A0-A0C1-813BDD0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E20FE-FAF3-4347-AC8E-2798316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4F3E-87D0-43D4-BC52-86BA1A05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AFF5C-7DD3-46AA-9498-AB94AB09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3835B-80AD-4774-B147-6CAFC350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A8273-BB4B-4315-8237-31922B6B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315-3D2E-4510-A892-319A582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40D81-A08C-4C9B-95A5-AE5D1A1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4F4D4-F57F-4890-862B-CF41828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1BDA3-A074-4E3D-9BB2-A637B84D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97005-A762-4E89-B4AA-4C9D7FC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4729-8496-4042-88E8-A9DB2B8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707ED-93AB-4718-8FAC-BDB224EA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1341D-CC46-488F-AF85-AFA4208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97AC1-9A9F-4CD0-889A-6E72F9D2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EC044-D7F5-4CBE-B5C6-BB464EC6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B8743-5C49-494F-A47D-0BC52C16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E91-CA86-47FF-B779-07079AF9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BF996-2544-41D8-B32E-DFF1FC5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4A768-2A2D-4C91-9CE1-B88626D8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314B-B31C-49B7-8793-4E8AE8A5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B499-2B6B-424C-B89F-5CC90B8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A9355-DBC5-40F3-903D-C15D64D4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6CE7-60A1-446C-8776-80B13E61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ECC57-6E34-4D88-BCC1-AEE0750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4724D-240E-4920-95E8-565D493A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3C988-73FC-4B0A-9BA1-CB5EF3B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90AD8-EE43-4319-A7BF-4ED1498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A192-B165-41E9-AC2B-35BC90A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5445B-5BB7-41A4-A3DD-AAE631A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7E2C-D47E-4CC6-8E4E-685B0937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E9AD2-C026-4F8F-BEF6-BAB5DA2B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BD44D-3977-4A20-9D52-727981F2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7A9F1-1CF1-462A-AE71-07349E7C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83649-0B0C-47AC-8FC0-81AD670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3964B-463C-4009-B77E-8598ED89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8EB7-AD48-469F-96A8-FDCCA28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7D24C-267D-4D16-B007-FD4507D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AAF67-F5E9-4A6C-99D7-865157D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2F7-6A00-4454-A0AC-06FCF89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B5727-0D34-4AFC-9555-2173BA9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A1986-DE2C-4BF4-B200-944F1EC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345B-4BFF-47A4-A811-8551176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3F88A-AF38-4160-B71B-3AD94D39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AA71-17B8-4990-BAB2-0A89A5AE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B1A38-78D7-4D09-91AE-C469FB17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DA8D9-6861-47B5-B8E2-0EBB1F9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1618D-EB84-4E74-8015-4D2FFA08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1F52E-3578-4558-98D2-E0084B9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C49A1-06FE-4BEA-A2D3-5D1FE87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1E9-D679-4E13-A32C-E88E190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11816-7F7D-487F-9DF4-C09AFC8D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08536-EC47-46DA-A7CA-7C4EF1EC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66B68-CCAF-409A-A328-FF1B69CB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F05FC-196C-4191-8B08-7BAB92B9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E4295-5076-4667-85BF-93458463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726E8-407B-4508-8EF2-0C31424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EEB89-CAEC-41CB-BF74-988E6492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AEC41-BAF9-4404-B9D4-0E533EFE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46A72-AD3F-4932-B4CD-C33FA30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E2D50-C83A-4877-BCF8-88F4CFE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180-3100-46BB-B207-1270838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EE80B-BB3D-407E-ACB5-AA81169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1D6B8-800F-4886-956A-401AC20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28FFE-839B-47EB-9D27-E460FED6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0FDAA-38E6-4D35-899B-F3B6098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530E9-9E62-4435-96EC-8CC6117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5FEFC-5982-4A8B-A55F-1E768A8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16FED-7C6D-4E9B-9DEA-C7679BD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416D9-494E-44BF-9D53-D0C7AF90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DD1D9-E298-480A-9472-D380E20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92A0F-8CF1-47C1-9F2C-8D1886B6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DBCA-E32F-481D-A0CF-FE8770F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99AFB-C989-498F-8305-26C31AB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2D847-9071-469E-B3E9-C8196E34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82A0B-4651-4498-A08E-C61DC81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0166A-4C8B-40AF-818A-2F77E83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2D220-147A-4837-942A-234E09E1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BC4A7-FBC7-451A-BAE5-5EE7712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A72DD-5CE1-4BD5-B747-D5E3436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EA574-3DB3-439E-870F-F29F660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77B9E-F186-425F-80C6-8491717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B7985-E77D-4426-BBE1-90724605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5436-A894-4A92-9DD2-2626D69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77FB9-0AFF-4BA9-9F04-84D36D6C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9BE80-C4D5-4B10-A717-4F5CD124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2420E-D3D6-446A-870B-B7302FB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B9B1A-044D-479A-A9DD-7BC968E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AEE80-CBA5-4E58-AD2E-5988B17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00153-0037-4860-BDEB-0B902C40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484C6-E7EE-4BEE-977C-AE82DF5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7E61E-49FB-4618-B46C-EE5B0D8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E8268-62B7-45E7-9F79-020331D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20C41-539F-4113-8968-EAD41289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B4E-36AE-415F-8DB3-C629AC4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2DFF5-82CE-480E-997A-20CF53B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D1A3F-0763-4C5A-8756-0E0F48AD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60A6C-5E9D-48CF-AB1C-13A46819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986FA-0DD2-4CE3-95AC-4CC7CCEC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98467-7660-4890-9FF5-BA6FE07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6932A-174B-4B61-AA2B-375456B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49EC7-B119-45E0-9EEE-A85D0A4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37B05-DCE3-4E68-B927-6FC43D90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C989F-4078-4B2E-AE81-CFE62D8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75AC5-F77E-4909-9BCD-0BC57450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6AC-0096-4293-98AE-5C68ED0D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0C5-E729-442A-98D6-17C115F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19B70-64C0-40F6-ACFD-58A0EFC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A9C5F-2B0D-44B9-8EC8-A5E00DB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D99F7-5E61-4FFA-8CDF-D02285A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51E3B-346B-47AA-9913-E0CF7D50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96948-1488-43D4-AE4C-957BDE4D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BD5FF-EC65-49F2-AE57-3AB33F16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EC535-9023-4B51-BA92-2152404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74019-1E28-408F-8F45-FE6881C9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2CA32-EEA1-4796-AB98-51CCEEF4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D9450-EC32-4452-A563-A437513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B8F4-807B-423D-980E-4E432C3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7E1FA-D21D-4D4E-83A9-4AEB99F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71943-0B75-47D5-BD57-EA5FF38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1460C-533C-49F7-958D-16871F0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4B0CE-141B-41F9-B971-3E107BF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959E1-66EC-4A14-92DD-DFC1499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A64AD-76DA-4C79-B984-0926CCB9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A6AA3-EC22-4362-9E83-33D3C6F5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AEC9E-F52E-4866-AA09-136489CF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C160A-BA8D-4876-A53D-58112F6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8FF10-44F4-4C93-B64A-B38B482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572-AB6A-4CDF-8359-242E7AC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745B1-3465-4598-ABCF-37B4E45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7F912-5885-48D6-A387-4278BB4E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AC578-28CD-4519-9534-E97DDB0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3279D-875F-462E-803B-67C5394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CADE9-491B-423F-8472-C52D039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FA41B-C0B5-4C2A-83F9-DF9A3F4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3E63F-A142-4791-A3D0-C681684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3468F-7BF2-4B31-BADC-D69F8AB7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5AD9C-84C5-496A-A70F-C28B906E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07C1E-5B5B-4B92-9117-8CD3BD9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223-F69E-4FD4-93DF-65895452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A2520-364B-47F2-8AF3-4DF0CB4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F571B-766F-4231-9D58-6DC2C12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7DE39-A36A-421E-BD26-CE10B80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A0B9F-A6B0-4D3D-8722-995CD63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55043-774B-4C90-A6EF-8C03830D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5704A-35D1-4DCE-8FDC-CB41035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4272F-D596-4239-808C-0EFFBE9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CCF7D-8BEA-4190-AEEA-3B1A2634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93C06-7549-40AB-B217-3312B41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CB27D-984B-44D9-AEC6-1E458C35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8764-3C01-4382-90B9-4DBB1AB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9A943-582E-4A11-89B8-B3251A25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BAFD4-1615-44D5-B89A-998FE3B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3A6CB-99D2-4AD2-8ADC-F46741DA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64677-8FE5-484B-AE12-E233AA2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5212B-6F84-44A5-B9DE-4FDE0A3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006C74-1E3D-4EB2-8FC3-85978FE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47124-1C52-4D11-A691-F286138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02638-78A1-49EC-9D55-3846A3D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B76494-5E74-4A2E-962B-322BD41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DAD159-8FF6-42D8-9A0A-A90805F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1983-45A7-4B79-9D1A-F1D642CB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28503-6E2F-44E4-8FDF-E05ACD0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C2199-EBBD-4EDE-A238-6A34437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DC899-1A3A-4A0E-88B4-9A6156BC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19B4-C22E-4B0F-8E4D-7E48FA8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78EB-7149-412B-B828-3A8AFB2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E195-501D-4119-A49E-D464A31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F896-FBC6-4655-9402-A321F0D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C50-A313-45DF-8C06-8C818C4A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02A5-C75D-4D46-B819-4F9FD6A5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738B-7E53-41A7-AA6E-23E15A2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9414-741C-495E-B799-7C68EDA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970F-9D5B-4CF4-976B-5EEBC2B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0378-1453-41BB-8C13-2ADC5F6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A972-A71A-47BF-BD72-8C619183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0C1A-135A-483F-B2D3-66E73FB0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84EA-5C7B-48BD-B2E3-15ED457C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D66B-E22B-49C0-B581-31D99861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7E29-3475-46F5-8D9E-D8791B5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5E3-D71D-413D-9A2A-64071C3F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8A77-DE08-483E-9934-8A05E25E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C19D-8DEB-4A61-A14D-BC0DE99C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18201-D2AC-4BFF-ABB1-44399464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6094-3A37-4D5E-8DA0-5AA00DB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1008-02EF-401B-95DB-BD21A4B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A8B3-462B-4718-877E-3ECA439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3B32-DCA5-46F3-A06C-D62DBCB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B58B7-6D0E-4693-BEEC-7F74D939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0F25-C3E5-4D17-AB89-5ACA3641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F46B-FF42-43C5-9624-F533663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3A-CEEC-4B51-90D4-D505725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CF7C-5E4D-4D34-91B8-28ABE8C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9B6E7-4011-459D-8D22-B6370AE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5F29-786D-4318-9EDF-CDE987A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D28C-449D-4B50-A905-1667041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7126-987F-4AA1-AD2A-8A60013A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85541-514C-408E-A5DA-F76CEA4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91B6-90D6-4D33-9F84-4D420C0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9501-6660-430B-A26E-8863C15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77BF-D6C1-41E5-A978-4315845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ABEC-C30A-416F-B1A1-757172CF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756-8115-48B3-8C56-D3EBDBC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EE0A-4D6D-4CDC-9B8A-A67E9034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8718B-02C6-4519-A4BC-88DA46AF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8987-80D9-46AE-A0D1-BD75204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74ADA-E0E6-4354-A488-4AC9386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B0AD-2A05-4D73-81DE-8397896A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80798-254B-452E-A282-4F9121BF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9F0F-49C4-411B-BD2B-879ACF99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D693-3852-43AD-B494-22BB7D4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BFBA-F3CB-42E9-8AE0-E9F62CD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532F-8AEA-4C28-89FE-DABC4E25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64B-BAAA-43A9-9DC9-E6F1D11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3BD6-E3EF-4E0A-AFC6-C644535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CCA1-F064-4F18-B4F7-03A56B4D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8979-6E2C-48A0-9286-569F98AB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11FB-E8C4-4123-9F0E-6557801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1786-3C6E-47B2-B900-4EDD2673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BBD6B-ACEC-49E1-949D-CBFAF2B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6C4F-BFF3-4613-BAA3-33454433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82C6-DFDD-4439-A99D-BDAB804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A5C6-3595-462B-9D94-1D6DF96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234A-6E6B-4D86-BECD-6544FE3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3DD-1AA1-4F5B-95E2-C7FEE4E1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8EC9-0237-4512-8C4D-7006EAA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BB8E-AEE4-4420-9893-4CC03DB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30FC-14F8-4F5D-9E0E-9C33254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2B96-E44B-4FBD-A03A-B1629DC1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D8CA-6C26-458B-980D-6683441A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B976-42CA-40E4-A0D5-0DF1B4FE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9DD25-0134-4477-BB1C-FC67455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32AB4-C646-4A6D-8BFF-6D19242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AA85-C8AA-4D0C-A4B7-3C161A6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F674-0079-4B96-96F3-B27596FA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2A8-9902-4016-89D5-3140659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782D-DEF1-4697-874E-738307A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07250-BAF1-4810-8EC1-46B23DF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5113-62F4-434D-89C7-2CB73BA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0363B-5692-4655-A0F4-66101DD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073F-48DE-41DC-B26A-431381E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E437-7C07-430F-A335-4DBC6282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52DB-C4EA-459D-96BC-3C647EB2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D634-99BC-4923-BD56-C5670EAD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0592E-344D-4BD6-B275-9D39268C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ACFD5-C97D-4FA5-AAC9-D40933D1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C95-7EB2-4C36-8180-1C536B11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327-B67E-4A12-8142-7D49DF586F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53F-AC96-4511-B3B4-50A8F69B1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990-EDD7-4BEE-B003-6BB506668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E400-AC52-41A8-80EC-131447D03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AAE-0ACB-4113-837F-FA7EC73A0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D98-FF17-4788-96A0-B4575979C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BC6-5B65-435E-806A-50D3909A50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57F6-57F3-454D-9BCF-41552CC2E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D14-FDB1-497F-A145-6128FCC55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F6D-402B-4B21-8740-EB8C0FC6F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4076-91A0-47F3-AD3F-DEC91AC07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0B1-82D6-4F93-A47E-1EE91242F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D5E3-653F-402F-9024-C75F843E2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F0F-9EA6-4810-8681-9C3DAF666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CB5F-EDAE-499E-90A1-776013121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0E0-4527-448D-B990-1D2D2F2CC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19D0-0E1A-41C9-A46B-77B38D6B7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A84-146B-498D-B1BF-17B73F40D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14E-B45E-48A8-A1F2-93F498F5E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15F0-4AB1-4516-AEF0-C73ACE76A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A416-1ECA-43CA-8990-744F410E0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C013-0338-44E1-8CE1-72DEF47E2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912-0630-42BE-A450-8738E7B0B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E0B-16E9-4442-9FDD-55ED3B840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155-1C1C-40B7-83F8-3F0C9DE4D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9DC-93AE-414F-ABC6-6296DA8DA8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01F-ED7A-4644-B79E-DEB2B067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D3FD-4330-40D2-92B8-871841E3D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52B0-6DE0-4421-9589-EB852FF7C7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77E-F452-4E84-ABA4-87A17C43E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41EA-D169-48CC-AB76-9CE1B0AB3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7D5A-6C89-4F43-97ED-AE0429CE3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FB6F-DE3E-4399-A856-EF03AF6337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20CC-283A-4E72-B594-694BE4B84B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FC0B-D84B-4349-A2E0-B7B17C7A8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794A-1C3A-4AF0-8C1B-5B4DADC0B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614D-D37A-4642-B3BE-FA6655F420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1D5-C89C-40DB-8D9D-35F7940E8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1FCE-1A45-4ACD-8158-5DF666358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65160" y="2320920"/>
            <a:ext cx="7399440" cy="7048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28680" y="3746520"/>
            <a:ext cx="48866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33200" y="1457280"/>
            <a:ext cx="8877600" cy="3943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619280" y="4826160"/>
            <a:ext cx="273672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450040" y="4840200"/>
            <a:ext cx="273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47640" y="1233360"/>
            <a:ext cx="7848720" cy="43912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122" descr=""/>
          <p:cNvPicPr/>
          <p:nvPr/>
        </p:nvPicPr>
        <p:blipFill>
          <a:blip r:embed="rId2"/>
          <a:stretch/>
        </p:blipFill>
        <p:spPr>
          <a:xfrm>
            <a:off x="2340000" y="3025800"/>
            <a:ext cx="1368360" cy="55872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5123" descr=""/>
          <p:cNvPicPr/>
          <p:nvPr/>
        </p:nvPicPr>
        <p:blipFill>
          <a:blip r:embed="rId3"/>
          <a:stretch/>
        </p:blipFill>
        <p:spPr>
          <a:xfrm>
            <a:off x="5176800" y="3025800"/>
            <a:ext cx="2347920" cy="558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4" descr=""/>
          <p:cNvPicPr/>
          <p:nvPr/>
        </p:nvPicPr>
        <p:blipFill>
          <a:blip r:embed="rId4"/>
          <a:stretch/>
        </p:blipFill>
        <p:spPr>
          <a:xfrm>
            <a:off x="2340000" y="3716280"/>
            <a:ext cx="1511280" cy="5587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5" descr=""/>
          <p:cNvPicPr/>
          <p:nvPr/>
        </p:nvPicPr>
        <p:blipFill>
          <a:blip r:embed="rId5"/>
          <a:stretch/>
        </p:blipFill>
        <p:spPr>
          <a:xfrm>
            <a:off x="5292720" y="3701880"/>
            <a:ext cx="1655640" cy="559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6" descr=""/>
          <p:cNvPicPr/>
          <p:nvPr/>
        </p:nvPicPr>
        <p:blipFill>
          <a:blip r:embed="rId6"/>
          <a:stretch/>
        </p:blipFill>
        <p:spPr>
          <a:xfrm>
            <a:off x="2325600" y="4363920"/>
            <a:ext cx="1656000" cy="5590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7" descr=""/>
          <p:cNvPicPr/>
          <p:nvPr/>
        </p:nvPicPr>
        <p:blipFill>
          <a:blip r:embed="rId7"/>
          <a:stretch/>
        </p:blipFill>
        <p:spPr>
          <a:xfrm>
            <a:off x="5695920" y="4365720"/>
            <a:ext cx="1468440" cy="5587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8" descr=""/>
          <p:cNvPicPr/>
          <p:nvPr/>
        </p:nvPicPr>
        <p:blipFill>
          <a:blip r:embed="rId8"/>
          <a:stretch/>
        </p:blipFill>
        <p:spPr>
          <a:xfrm>
            <a:off x="2340000" y="5056200"/>
            <a:ext cx="1295280" cy="5587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9" descr=""/>
          <p:cNvPicPr/>
          <p:nvPr/>
        </p:nvPicPr>
        <p:blipFill>
          <a:blip r:embed="rId9"/>
          <a:stretch/>
        </p:blipFill>
        <p:spPr>
          <a:xfrm>
            <a:off x="5105520" y="5041800"/>
            <a:ext cx="17715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61920" y="906480"/>
            <a:ext cx="9018720" cy="38196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642960" y="4726080"/>
            <a:ext cx="7448400" cy="2076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042920" y="52578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33240" y="1995480"/>
            <a:ext cx="7875720" cy="2867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057320" y="2060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116000" y="365904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4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