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B666-A966-42DC-A610-54EB10AC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AE23-9E92-4BE2-9CEF-5DDBAEE6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0CB9C-6012-4582-BE79-4C60C12B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13D4E-5269-42C6-A17B-8765B159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8FDA0-3F61-4E62-A064-73A81534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A93F0-0BAB-4C28-8D9B-819CB724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07A14-F3FB-4E8D-A263-3A08C5B2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1D9B3-1C82-4596-8191-F6EFA0FA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CFB12-3BE1-454A-82C7-3B4EA026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D1095-D3D9-42E2-8800-C83F6813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33F8E-100A-487D-BF98-FC525B02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25D1A-442E-461C-AD88-0B799996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768-E797-4BF2-97AC-09D20783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0300D-7951-4B24-A9AD-932FBD65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60AC6-9507-408E-8D62-056C9C98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95BA9-5106-434C-ABE9-6766FFE1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BF78B-F8A5-44AC-A497-03EFCBF7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80520-C814-49A4-BC05-CF724730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4C4EF-9E79-4A8F-85BD-D4966FB1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0B060-15C4-4518-ACF4-6D40B977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EFFEA-4F4A-420C-B7C6-130FA512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8D321-5339-4B71-8453-A88E8C3A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89C61-5654-4A5C-8740-46F57A56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5DF-1413-43E4-BDEC-58DF83D5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B9B61-6863-4D38-81BD-A5D2557F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BE0AB-C144-4992-8FE3-51BF7C94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FC29F-4067-447B-81D2-2CD2AF89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823CF-AE5E-4079-A473-82F8EA58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4F389-2854-4FE1-8B91-FDEC527D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0CC46-EC2A-485E-B6CC-A6BF9E3D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E4010-748F-45C0-92BD-2407D603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54A72-C652-43CA-A0E9-8AE355ED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8EF9D-877B-4E84-85B2-3B791B25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87C82-5C95-4944-BECA-B2E08B75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AC0A-E798-458C-9E4E-E9C325F5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5F714-9816-4CD1-9098-30AEDA80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5D267-A058-467C-9A70-6BEC4911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D1BAD-7525-45B0-BFEE-69DC5140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C391E-E761-40E4-8757-0499A8A2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94705-BB51-4444-9049-C4651057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7BF9D-2C45-48C7-8EAB-1E3EB742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F8F82-C7C0-44B0-BA4A-35C18649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19E9E-9F3A-4B95-8707-AD597598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1DEEE-2B07-426D-9FAE-FCD65473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0B835-561D-4E0C-BC3F-FEBB06B8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928C-5505-4EC5-96FB-E365D7CB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1CA1D-F3A5-4ADE-B355-4FF88E2A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1C9AC-4F49-44F6-A1A7-097EB307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5D23E-5FBB-4E51-BDE2-7892CC84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0CB84-5D2E-4A35-A723-D151323F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0EF37-4BFE-47DD-840A-D6FAF9BA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EF779-DA50-44E2-AC3A-1140B177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433C5-8E29-416F-93CF-0185798E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8E737-5635-43D7-B099-D5579BD2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90298-2F99-40D4-8D26-0964F2FB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8D799-656B-42E1-9227-9C7AEBD8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99B9-B7C4-46F4-A16D-F9E905D5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F1C39-4C96-48C1-93E8-AB52779F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2F1B4-1248-4DF4-8EB6-90712791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7D6B1-D29C-4EB4-9FAF-9BCBBDEE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4E225-85EA-45CC-8EB1-A444F361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0458F-333E-430A-BC27-0C51D57E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1C30D-48F5-4154-A053-6C507737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D9F46-9CC6-49E2-89C5-31ABE4BE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86A740-5002-4B0E-ABD4-00DDF610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F5CA8-8A6C-4AF1-B754-1C4E3455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D1254-3ED7-46BA-A58A-8094CEFF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0B94-3CC4-494F-9393-B30B49FD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9F1F0B-D56D-47D1-923E-067F5C78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BE9D5-D7A5-4894-AD3A-491F2E84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79BF6-DEE6-4B8F-95AC-B852F12D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8EC210-113F-4C8F-8A63-BC52F7C5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5E6305-FE9C-429A-AC1D-1CECBA33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8CE56-B177-453F-98DE-E87CFFCB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502598-6275-4675-ACE1-A7A215FB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84A6D-1FC9-4642-A60A-08834875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CE204-12EB-4BC8-98C0-2AF344B9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D81678-58F9-46A9-90CC-08215230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8BDA-0754-44B6-983D-5B242801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2BE1C8-F8D5-4F07-930C-B0883C23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D9B222-18C5-4AC0-95A8-67A2937E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62F661-FDFB-4F28-9FA6-C850238A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F55EDC-5FD2-43BF-BCC3-EC31EA93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3F624-C317-4576-AA97-CF9C4B83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134D01-24E5-4199-9E7B-69C3641E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1B6631-8DF6-403B-A6A4-548AD740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46DA8C-79D9-41F0-B0AF-EB4763C1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72301A-3CDF-4E9F-8751-F0523211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BD194C-A6B0-40BB-9985-A571E5C2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20F6-39F6-44F4-A938-55447F73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308FE1-DC29-476E-8EBC-B127539C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3D5218-C60B-4027-AB23-3331F95B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9B8EBB-5AC1-49BD-94DE-B6EA4B69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08F716-CF6A-430A-B696-8334F02C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B35A8F-0535-494A-8573-0D0F67D6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3BF595-BC83-413D-BA21-6EA1610F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9B0D13-CCF3-41FE-AAEE-FDF32BF8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52FF16-FA4D-4361-8C6B-E5B664F8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C452D9-6656-47F5-B28D-8886380A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3562CD-9F90-4ACC-9948-508FBE68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7A8B-E1EE-4F04-BE5B-2773B113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A53494-F80D-469C-BBA4-E898E7F6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EA8B69-A09D-44FC-8A61-35048001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72D78F-AE1B-40C5-8062-A4DF018A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DAA727-599B-47FD-A5C5-D4F16525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9FFE78-1A80-4A55-9BA7-F65322BB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F6BAA6-367D-4DE1-A2BF-954239AD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50C045-A40E-4781-9AB0-E613EF2D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38B295-9557-4171-8ABA-B3CA3FF0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2056C6-6508-445D-8D93-B0BD1A80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59CE69-E1D4-4CB9-8FFD-94EBF5E8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268-CD1B-4327-A254-AB45C9B4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5B0A-38E1-49CB-87E2-029262C8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1C2960-28E5-49B4-85EA-CE7C781E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DA2205-9CAE-4C02-991D-D49D995C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F8E4CE-7EFD-4A41-AF92-6A7D91EA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4258C8-42F3-406E-A49C-7DF6A822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4D5035-1057-4597-9565-F568F995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4833C1-0DD3-4B21-890E-2B420334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7E9EC7-3F27-4A85-8D65-993C030F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D46E4C-46EF-408C-9E0E-FC2940B2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A2A113-8D99-4856-895F-42A3B740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D98659-D96F-479C-AAF0-4F5F50DD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C198-4689-4F02-AB57-D9EA4EED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641E1C-4202-47D2-B960-B9567FE5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C57E5D-9B99-4430-82D3-6767FAFE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E42A57-08FD-4242-BAEA-E363B4A6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22EA5B-93F4-463F-A7DB-208C4A1B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87A089-28C9-4551-9C1F-775E660B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67122A-97B0-44FA-997E-5352BDC4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1F3511-F7F3-4615-B7E9-EE0EE9B5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347739-E424-444D-9AB0-D240DD10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E1ED04-D122-4126-8E34-C1C344EE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51C606-009E-4502-A606-C2076A05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24C7-E0AA-48F9-BC96-FC719B3A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AC49E7-D720-4D92-BCD5-C8FBE5A9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E526E0-103D-4DEB-9493-1D22448E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328DEB-DF7F-40C0-BBF7-2D03DA18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CDD419-746F-444E-B3A0-87000DE4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08DCB8-642B-4D5F-8B96-D036547D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714B2F-1D9A-46A0-A690-EA3CEFB3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5B67F3-8C1B-488D-A7B3-3AA8D133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2F7901-7F5E-46B7-8933-76C2BC1D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EB397C-0127-4CC8-BBD2-D8DBD219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77597A-838A-4491-B205-0D6F7445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883A-F866-47D2-B9C5-B7F8170B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DA20E2-2EEA-4E46-9F39-358BA597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6AEB6C-D13B-4627-BA23-9BA56856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2C9DE3-7C5F-4C33-AABA-7F524EE7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BCE47F-2CD0-40B8-AABA-1DCE87B8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A4739E-4531-493E-91F1-4256B794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75CE65-5F53-445F-AF9B-2969E2C4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F8F6BC-094E-44C5-8267-3B391C95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37F349-8A2C-4154-B01A-3CBA0FBB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4C82A8-5A61-4FAB-A24B-1813CC24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D505C7-6935-4972-A8A5-78676A37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A98A-0C38-4973-ABD2-4B204E79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BBEA81-FFA2-49D4-B9B3-55D2130C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69C773-8661-49F6-BF53-240C192B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DE9D5C-F967-419C-BB1E-578278A9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F414E3-EDBC-4A10-9907-C5773D1D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C5A3E6-89EF-408E-B7B4-E38652B8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4F1409-DE59-48C7-9889-15EFF2EE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452CF9-669F-445A-8DC5-C0A09F18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A7111D-134E-4A2C-88E2-04EE1207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D9A43F-15D9-4B14-B082-6BCF6C15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1D9D20-BF17-4F7D-AC4F-12412C8E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524C04-2BEA-4E80-896B-1CEFDBDE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26C44A-3FC3-451E-8FE7-746CB1FC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FEC7FD-BE54-4EF7-A27B-1426EF04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C9AF-83CB-4610-875C-6512C927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9D3D7-3F8F-41DB-9AF0-45745DFE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A65CD-02D6-4A6A-8E23-8ECC1978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0EC38-5415-4FD8-989C-8AD804A5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A48-3FDA-4AFA-A5C3-1CA4E695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E4CF4-58FE-4273-AE86-8D0A431F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34D4C-9B1E-4207-B43D-8622366B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8806C-423D-4E77-994A-7CB655E8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6BFFD-1806-4B54-BED8-3CD40EB0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0B52B-0F1F-4D10-97C7-E6B48BCB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E15D7-797A-4F9D-AF88-A46A5A5F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BEB01-EC65-40FD-94E1-31F6AB74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BBD2B-DBA0-4786-A5D8-CE6D10CC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860DE-8867-44D5-AB66-7603966A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0EEF8-678D-4278-AC8A-B8E2D4F5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556-5BA2-4F78-91C6-6ED24C28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3F3F1-88AE-46FE-A208-F29D1817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DDB7E-91D8-43F6-B3BC-4D99E548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F0281-D51A-4BC8-AF05-2D32C07A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73237-BFF9-4A4F-816A-69F7D875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55E0E-2692-4159-8800-6945A0CC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B1895-6060-45E3-A077-00685831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1B1F8-0067-4E0E-BE95-D510AFEE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0C20D-8CBC-4610-9D71-575426DF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10A5B-A1BF-4F0E-BB84-151ED657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7A6A9-0B46-4401-8C15-2A2B9D61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FB00-6F43-429D-9E28-17BBCE6C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9451B-6987-48FD-A762-F2C867D1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70FE2-1BDE-4A8C-AA0F-6A2301F2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462BD-1D50-44ED-AF97-85A8AC75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D45D1-2E13-4520-9A62-F69E3A3F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5F19B-7F6F-4A51-95D2-3643EEDA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15461-38A1-441E-8E66-00A28B7F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9AA2E-02CB-45AB-82B4-EA170E83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33396-733E-4CFC-AD6E-4B404E5C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44839-A67C-4D98-A028-F8D91FA0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27B1C-A671-49D2-9BD5-5DEAB808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ED15-94FA-49DA-B899-C4DF86A7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BF9B6-ADAB-48D1-BC8F-096C6B4A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87250-35EE-43C0-9F05-D7A02BF7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FAC0F-E723-4818-B7D4-412A194B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901DD-E632-4DC7-802D-6D00F1DB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A7B09-059B-4B73-B669-2402ABDC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1BD82-168F-4CE3-B776-FF927468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73D37-E22F-45A9-A6DE-E1B026F2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67931-85E7-42ED-8431-7FD211A9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B5C4B-AF7E-4DB5-B91D-B4970FFA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F4C2F-6964-47C3-B8C8-D4D4F664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D827-44B2-47DB-8CFE-CD56B186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7C503-8889-4B6B-9069-CFDC9937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288DA-4F3D-4F35-9200-841A64C0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4A5B4-0E99-44EE-8362-4FA36D5B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64D49-5FAD-4823-B291-66B24D93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3A98F-D4C0-44CF-AD06-DACB75D0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D2EE8-919E-46A3-99CC-84817740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89411-2B04-439C-BA73-C78CEA89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C5BD4-7F0F-4EBF-9EA2-EF7DB2FB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99F3F-CFB0-473C-9A24-25B07103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A7504-4F8A-4BD1-80CA-3E9BFD10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362F-A372-4404-9805-1416DAEB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63970-C736-436E-99B2-E0AFE07A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7B4A4-2964-43A7-B07B-399316AC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50E54-1556-431C-B88A-D5DECE7D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91A60-84A9-47AC-804A-9E211B4F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2FEF0-FB13-4CCA-A2D3-A6030FFE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F062D-0D19-4A10-8BC0-02E20315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CE106-D053-4521-91B0-693E6E6F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6E528-60D4-4609-B337-E87C81BE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DB6E9-9A64-4ADA-A461-C792383D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78E39-5135-44C3-91AE-E898C8A2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6F41-68CE-45A1-A139-59CC7B08A5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0FD3-DC5B-4CC3-A926-789FD1CEDA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DB84-9F7A-45DB-8895-6A3B13DEFD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23AA-98BC-4DCB-95A0-0613AA1824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2E30-6725-4A05-8473-8A56252FAC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D3E8-9E89-4C35-994F-8BD8D3DA9D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91C9-2E61-42A8-AA71-72353E8FF0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B760-5970-44DD-ADE3-A47A2A57EB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FB10-E31D-48AC-B213-A225626BC7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7CE5-46DE-4E3F-8E4B-1425A421BB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EF36-A274-4C49-96ED-BDF06DB6B1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5B41-7F01-48D4-82EE-9A951C4C00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DF74-4ED4-40E4-9D28-14E61C5CB8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86CF-00E4-4283-807A-34FCEC07BB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1439-A319-44C9-B301-149E675F21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3250-A2AA-4053-A1BA-46CA8A2143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3685-6017-457B-8BD0-98DD9C9C3F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2D6F-F80B-4ECD-B136-3AB9E25367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15AC-04DF-439A-A1E8-BAAB28FE28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295E-6FF4-4BC1-AE94-3F449F4EFD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7ED0-29D7-4920-B979-1ADD001A21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4DF4-392A-4864-A5A3-9D27E0DC4F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4F97-E3FA-4801-8042-0346D3B0DA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C5A8-E8F0-424D-B252-E54AB89268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2106-D9DE-4FE2-BBA9-119EDB1424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52D7-C3AC-4EDE-8AD8-F20F301FF8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6C61-8308-4C21-9432-D23061CEA2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D6F2-32F9-4B94-9D24-E33A3BA8E3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83BF-4B00-4400-8830-5C73BA6274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F9A4-72D3-492A-9ACE-2F78CF2533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1F1C-7C7A-488A-8571-80C3820116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35CD-9EF3-4C08-8E71-DDBF389128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BEA4-8473-4AD1-8AE8-75CBDC3B52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97BC-3E32-40B1-A0FD-1D7D4DC793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8718-FC05-4CF1-AD15-AE4B91849D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CE64-8B24-4432-91E7-A442B8B8D9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4555-9CED-4C6C-A21E-DC9DCCA6DC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3927-E1E2-49D3-9D07-FEC895908E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538D-9F03-4E66-AED7-AE865A0676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299880" y="2367000"/>
            <a:ext cx="8664840" cy="63036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2052" descr=""/>
          <p:cNvPicPr/>
          <p:nvPr/>
        </p:nvPicPr>
        <p:blipFill>
          <a:blip r:embed="rId2"/>
          <a:stretch/>
        </p:blipFill>
        <p:spPr>
          <a:xfrm>
            <a:off x="709560" y="3645000"/>
            <a:ext cx="77248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0" name="图片 13313" descr=""/>
          <p:cNvPicPr/>
          <p:nvPr/>
        </p:nvPicPr>
        <p:blipFill>
          <a:blip r:embed="rId1"/>
          <a:stretch/>
        </p:blipFill>
        <p:spPr>
          <a:xfrm>
            <a:off x="471600" y="952560"/>
            <a:ext cx="8200800" cy="49528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2"/>
          <a:stretch/>
        </p:blipFill>
        <p:spPr>
          <a:xfrm>
            <a:off x="2340000" y="3559320"/>
            <a:ext cx="86364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3"/>
          <a:stretch/>
        </p:blipFill>
        <p:spPr>
          <a:xfrm>
            <a:off x="7091280" y="3573360"/>
            <a:ext cx="136836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4"/>
          <a:stretch/>
        </p:blipFill>
        <p:spPr>
          <a:xfrm>
            <a:off x="3981600" y="4321080"/>
            <a:ext cx="863280" cy="449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5"/>
          <a:stretch/>
        </p:blipFill>
        <p:spPr>
          <a:xfrm>
            <a:off x="5580000" y="4335480"/>
            <a:ext cx="863640" cy="4492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6"/>
          <a:stretch/>
        </p:blipFill>
        <p:spPr>
          <a:xfrm>
            <a:off x="7093080" y="5099040"/>
            <a:ext cx="13665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5" name="图片 22529" descr=""/>
          <p:cNvPicPr/>
          <p:nvPr/>
        </p:nvPicPr>
        <p:blipFill>
          <a:blip r:embed="rId1"/>
          <a:stretch/>
        </p:blipFill>
        <p:spPr>
          <a:xfrm>
            <a:off x="480960" y="1090440"/>
            <a:ext cx="8182080" cy="46771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1547640" y="2852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547640" y="3645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1619280" y="4437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1547640" y="52293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3" name="图片 21506" descr=""/>
          <p:cNvPicPr/>
          <p:nvPr/>
        </p:nvPicPr>
        <p:blipFill>
          <a:blip r:embed="rId1"/>
          <a:stretch/>
        </p:blipFill>
        <p:spPr>
          <a:xfrm>
            <a:off x="4567320" y="340524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21507" descr=""/>
          <p:cNvPicPr/>
          <p:nvPr/>
        </p:nvPicPr>
        <p:blipFill>
          <a:blip r:embed="rId2"/>
          <a:stretch/>
        </p:blipFill>
        <p:spPr>
          <a:xfrm>
            <a:off x="185760" y="1838160"/>
            <a:ext cx="8772480" cy="31816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1258920" y="28526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20481" descr=""/>
          <p:cNvPicPr/>
          <p:nvPr/>
        </p:nvPicPr>
        <p:blipFill>
          <a:blip r:embed="rId1"/>
          <a:stretch/>
        </p:blipFill>
        <p:spPr>
          <a:xfrm>
            <a:off x="485640" y="784080"/>
            <a:ext cx="8172720" cy="60296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826920" y="7938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8193" descr=""/>
          <p:cNvPicPr/>
          <p:nvPr/>
        </p:nvPicPr>
        <p:blipFill>
          <a:blip r:embed="rId1"/>
          <a:stretch/>
        </p:blipFill>
        <p:spPr>
          <a:xfrm>
            <a:off x="471600" y="917640"/>
            <a:ext cx="8200800" cy="52480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770040" y="981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9217" descr=""/>
          <p:cNvPicPr/>
          <p:nvPr/>
        </p:nvPicPr>
        <p:blipFill>
          <a:blip r:embed="rId1"/>
          <a:stretch/>
        </p:blipFill>
        <p:spPr>
          <a:xfrm>
            <a:off x="752400" y="1447920"/>
            <a:ext cx="7639200" cy="39621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1835280" y="2492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1763640" y="40766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0241" descr=""/>
          <p:cNvPicPr/>
          <p:nvPr/>
        </p:nvPicPr>
        <p:blipFill>
          <a:blip r:embed="rId1"/>
          <a:stretch/>
        </p:blipFill>
        <p:spPr>
          <a:xfrm>
            <a:off x="528480" y="858960"/>
            <a:ext cx="8087040" cy="58100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900000" y="836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900000" y="1628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942840" y="23493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图片 12289" descr=""/>
          <p:cNvPicPr/>
          <p:nvPr/>
        </p:nvPicPr>
        <p:blipFill>
          <a:blip r:embed="rId1"/>
          <a:stretch/>
        </p:blipFill>
        <p:spPr>
          <a:xfrm>
            <a:off x="85680" y="765000"/>
            <a:ext cx="8972640" cy="60487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1258920" y="63500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1258920" y="4005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1258920" y="24638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1258920" y="1700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6"/>
          <a:stretch/>
        </p:blipFill>
        <p:spPr>
          <a:xfrm>
            <a:off x="1216080" y="555948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7" name="图片 11265" descr=""/>
          <p:cNvPicPr/>
          <p:nvPr/>
        </p:nvPicPr>
        <p:blipFill>
          <a:blip r:embed="rId1"/>
          <a:stretch/>
        </p:blipFill>
        <p:spPr>
          <a:xfrm>
            <a:off x="119160" y="755640"/>
            <a:ext cx="890568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6:38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